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6.png" ContentType="image/png"/>
  <Override PartName="/ppt/media/image18.png" ContentType="image/png"/>
  <Override PartName="/ppt/media/image57.jpeg" ContentType="image/jpeg"/>
  <Override PartName="/ppt/media/image53.jpeg" ContentType="image/jpeg"/>
  <Override PartName="/ppt/media/image23.png" ContentType="image/png"/>
  <Override PartName="/ppt/media/image51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58.png" ContentType="image/png"/>
  <Override PartName="/ppt/media/image45.jpeg" ContentType="image/jpeg"/>
  <Override PartName="/ppt/media/image44.jpeg" ContentType="image/jpeg"/>
  <Override PartName="/ppt/media/image38.png" ContentType="image/png"/>
  <Override PartName="/ppt/media/image41.jpeg" ContentType="image/jpeg"/>
  <Override PartName="/ppt/media/image2.jpeg" ContentType="image/jpeg"/>
  <Override PartName="/ppt/media/image20.png" ContentType="image/png"/>
  <Override PartName="/ppt/media/image50.jpeg" ContentType="image/jpeg"/>
  <Override PartName="/ppt/media/image27.jpeg" ContentType="image/jpeg"/>
  <Override PartName="/ppt/media/image35.jpeg" ContentType="image/jpeg"/>
  <Override PartName="/ppt/media/image10.png" ContentType="image/png"/>
  <Override PartName="/ppt/media/image49.jpeg" ContentType="image/jpeg"/>
  <Override PartName="/ppt/media/image1.jpeg" ContentType="image/jpeg"/>
  <Override PartName="/ppt/media/image21.png" ContentType="image/png"/>
  <Override PartName="/ppt/media/image67.jpeg" ContentType="image/jpeg"/>
  <Override PartName="/ppt/media/image22.png" ContentType="image/png"/>
  <Override PartName="/ppt/media/image75.png" ContentType="image/png"/>
  <Override PartName="/ppt/media/image26.jpeg" ContentType="image/jpeg"/>
  <Override PartName="/ppt/media/image70.jpeg" ContentType="image/jpeg"/>
  <Override PartName="/ppt/media/image65.jpeg" ContentType="image/jpeg"/>
  <Override PartName="/ppt/media/image8.jpeg" ContentType="image/jpeg"/>
  <Override PartName="/ppt/media/image19.png" ContentType="image/png"/>
  <Override PartName="/ppt/media/image62.jpeg" ContentType="image/jpeg"/>
  <Override PartName="/ppt/media/image73.png" ContentType="image/png"/>
  <Override PartName="/ppt/media/image71.jpeg" ContentType="image/jpeg"/>
  <Override PartName="/ppt/media/image66.jpeg" ContentType="image/jpeg"/>
  <Override PartName="/ppt/media/image11.png" ContentType="image/png"/>
  <Override PartName="/ppt/media/image69.jpeg" ContentType="image/jpeg"/>
  <Override PartName="/ppt/media/image24.png" ContentType="image/png"/>
  <Override PartName="/ppt/media/image68.jpeg" ContentType="image/jpeg"/>
  <Override PartName="/ppt/media/image72.jpeg" ContentType="image/jpeg"/>
  <Override PartName="/ppt/media/image14.png" ContentType="image/png"/>
  <Override PartName="/ppt/media/image63.jpeg" ContentType="image/jpeg"/>
  <Override PartName="/ppt/media/image55.jpeg" ContentType="image/jpeg"/>
  <Override PartName="/ppt/media/image74.png" ContentType="image/png"/>
  <Override PartName="/ppt/media/image61.jpeg" ContentType="image/jpeg"/>
  <Override PartName="/ppt/media/image40.png" ContentType="image/png"/>
  <Override PartName="/ppt/media/image60.jpeg" ContentType="image/jpeg"/>
  <Override PartName="/ppt/media/image30.png" ContentType="image/png"/>
  <Override PartName="/ppt/media/image15.png" ContentType="image/png"/>
  <Override PartName="/ppt/media/image3.png" ContentType="image/png"/>
  <Override PartName="/ppt/media/image56.jpeg" ContentType="image/jpeg"/>
  <Override PartName="/ppt/media/image34.png" ContentType="image/png"/>
  <Override PartName="/ppt/media/image29.jpeg" ContentType="image/jpeg"/>
  <Override PartName="/ppt/media/image16.png" ContentType="image/png"/>
  <Override PartName="/ppt/media/image4.png" ContentType="image/png"/>
  <Override PartName="/ppt/media/image7.jpeg" ContentType="image/jpeg"/>
  <Override PartName="/ppt/media/image43.jpeg" ContentType="image/jpeg"/>
  <Override PartName="/ppt/media/image25.gif" ContentType="image/gif"/>
  <Override PartName="/ppt/media/image28.png" ContentType="image/png"/>
  <Override PartName="/ppt/media/image5.png" ContentType="image/png"/>
  <Override PartName="/ppt/media/image17.png" ContentType="image/png"/>
  <Override PartName="/ppt/media/image36.png" ContentType="image/png"/>
  <Override PartName="/ppt/media/image9.png" ContentType="image/png"/>
  <Override PartName="/ppt/media/image64.jpeg" ContentType="image/jpeg"/>
  <Override PartName="/ppt/media/image39.png" ContentType="image/png"/>
  <Override PartName="/ppt/media/image12.png" ContentType="image/png"/>
  <Override PartName="/ppt/media/image52.jpeg" ContentType="image/jpeg"/>
  <Override PartName="/ppt/media/image13.png" ContentType="image/png"/>
  <Override PartName="/ppt/media/image54.jpeg" ContentType="image/jpeg"/>
  <Override PartName="/ppt/media/image31.jpeg" ContentType="image/jpeg"/>
  <Override PartName="/ppt/media/image32.png" ContentType="image/png"/>
  <Override PartName="/ppt/media/image33.jpeg" ContentType="image/jpeg"/>
  <Override PartName="/ppt/media/image3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DB2C2-1F35-469D-9CA2-AD3CDC764B1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Геометрические фигуры и тел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многоугольников можно составлять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аркет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аркет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покрытие плоскости многоугольниками сплошь, без просветов и двойных покрытий. Любые два многоугольника имеют либо общую сторону, либо общую вершину, либо не имеют общих точе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авильный парке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такой паркет из правильных многоугольников, в котором вокруг любой вершины многоугольники расположены одним и тем же способом (вокруг всех вершин в одном и том же порядке следуют многоугольники одних и тех же наименова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го возможны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11 правильных паркет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угольники –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вадраты –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естиугольники –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угольники и квадраты – 2 ви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угольники и шестиугольники – 2 ви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ьмиугольники и квадраты –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енадцатиугольники и треугольники –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естиугольники, квадраты и треугольники –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енадцатиугольники, шестиугольники и квадраты -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кружность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— это замкнутая кривая линия, состоящая из точек, находящихся на одинаковом расстоянии от заданной точки О. Множество всех точек плоскости, находящихся на одном и том же расстоянии от данной точки плоск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очка О называется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центром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кружности (от лат. «острый конец палочки»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Радиус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— (от лат. «спица колеса») отрезок, соединяющий центр окружности с ка­кой-нибудь ее точк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Хорда окружност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отрезок, концы которого принадлежат окруж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Диаметр окружности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— (от гр. «поперечник») отрезок (хорда), проходящий через центр окружности (круга) и соединяющий две любые ее точки. На­пример: диаметр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А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Диаметр равен двум радиусам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Круг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— часть плоскости, ограниченная окружностью. Множество всех точек плоскости, расстояние которых от некоторой данной точки плоскости (центра) не больше данно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Гра­ница круга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— окруж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Сектор 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часть круга между двумя его радиус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Сегмент 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часть круга, ограниченная хордой и стягиваемой ею дуг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Краткая характеристика основных понятий стереомет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Стереометрия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аздел геометрии, который изучает свойства всех фигур простран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бъемные фигуры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геометрии чаще называют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тел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Геометрическое тело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граниченная связная фигура в пространстве, которая содержит все свои граничные точ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Фигура ограниченная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если ее можно заключить в какую-либо сфер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Фигура связная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если любые две ее точки можно соединить непрерывной линией, целиком принадлежащей фигур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ногогранник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тело, поверхность которого состоит из конечного числа плоских многоугольни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рани многогранни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плоские многоугольники, образующие его поверхность.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бр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стороны граней.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ершины многогранник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вершины граней.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иагональ многогранни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отрезок, соединяющий две вершины, не принадлежащие одной гра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ногогранник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пуклый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если он лежит целиком по одну сторону от плоскости любой его грани. Вместе с двумя любыми точками содержит целиком весь отрезок, соединяющий эти точки. Грани – выпуклые многоугольн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уб, призма, пирамида — это многогранни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любом выпуклом многограннике выполняется условие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= 2, гд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число вершин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число ребер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число граней (теорема Эйлер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Тела вра­щени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образуются при вращении плоской фигуры вокруг не пересекающей ее оси, имеют гладкие криволинейные поверх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Шар, конус, цилиндр — это тела вра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ямой круговой цилиндр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гр. «валик, каток»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лучается вращением прямоугольника вокруг одной из сторо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ямой круговой кону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лат. «шишка») – вращением прямоугольного треугольника вокруг кат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Шар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ращением полукруга вокруг диамет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изма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гр. «отпиленный кусочек»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многогранник, две грани которого – равные многоугольники, лежащие в параллельных плоскостях, а остальные грани – параллелограм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Если боковые ребра перпендикулярны плоскостям оснований, то призма –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ямая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если нет –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наклонна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Если в основании прямой призмы лежит правильный многоугольник, то призма –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авильна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араллелепипед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призма, основания которой  - параллелограм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ямоугольный параллелепипед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прямой параллелепипед, основание которого – прямоугольник. Все грани – прямоугольн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Куб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прямоугольный параллелепипед, все ребра которого равны. Все грани – квадра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остроение изображения призм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троят основание (нижнее или верхнее – многоугольник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з вершин многоугольника строят параллельные прямы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а прямых откладывают равные отрезки (высота призмы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оединяют полученные точки (концы отрезков), получая второе осн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ирамид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многогранник, одна из граней которого – произвольный многоугольник, а остальные – треугольники, имеющие общую вершин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ирамида правильная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если в ее основании правильный многоугольник, а основание высоты совпадает с центром осн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Высот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отрезок перпендикуляра, проведенный из вершины пирамиды к плоскости ее осн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Усеченная пирамид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часть пирамиды, заключенная между основанием и секущей плоскостью, параллельной основан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остроение изображения пирамид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а примере правильной пирами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троят основание, находят его центр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троят высоту, проводя отрезок из центра основания, отмечают на нем вершину пирамид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оединяют отрезками вершины основания с вершиной пирами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Многогранник правильный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если все его грани – правильные равные многоугольники и все двугранные углы рав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Свойства правильных многогранник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се ребра равн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се плоские углы равн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се многогранные углы равн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се многогранные углы имеют одно и то же число граней, и в каждой вершине сходится одно и то же число ребе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сего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существует 5 видов правильных многогранников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Тетраэд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4 грани – треугольн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Гексаэд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куб) – 6 граней – квадра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ктаэд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8 граней, треугольн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Додекаэд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12 граней, пятиугольн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Икосаэд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20 граней, треугольни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сновные понятия геомет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Точк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— неопределяемое понятие геометрии, элемент пространства. С точкой обычно знакомят методом показа — рисуют или прокалывают стержнем ручки в листочке бумаги. Считается, что точка не имеет ни длины, ни ширины, ни площад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ямая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сновное неопределяемое понятие, подмножество простран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лоскость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основное неопределяемое понятие, специальное подмножество простран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Геометрическая фигур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множество точе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войства и взаимосвязи основных понятий описываются с помощью определенной группы аксиом. Через основные понятия вводятся определения всех других геометрических понятий. На основании аксиом и определений доказывают теор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фагорейцы считали правильные многогранники божественными фигурами. Праосновам бытия приписывалась форма правильных многогранников. Частица огня – тетраэдр; земли – куб; воздуха – октаэдр; вода – икосаэдр. Вся вселенная имеет форму додекаэд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ние пифагорейцев изложил в своих трудах Платон. С тех пор правильные многогранники называют платоновыми тел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вклид доказал, что других правильных многоугольников не существу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мма плоских углов выпуклого многогранного угла меньше 3600, поэтому в одной вершине может сходить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ьных треугольников – 3 (1800), 4 (2400) или 5 (3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вадратов – 3 (27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ятиугольников – 3 (3240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рхимед открыл и описал 13 видов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олуправильных многогранников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которые называют телами Архиме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се многогранные углы их равны, а грани – разноименные правильные многоугольн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луправильные многогранники можно получить из правильных операцией усечения угл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Краткая характеристика основных понятий планимет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ланиметрия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аздел геометрии, изучающий свойства фигур, лежащих в одной плоск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Если все точки фигуры принадлежат одной плоскости, то фигура называется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лоск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Линия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— неопределяемое понятие геометрии. С линией зна­комят методом показа — моделируют из шнура, рисуют на дос­ке или на листе бума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Прямую линию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удобно моделировать, сгибая любой лист бу­ма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сновное свойство прямой линии: прямая линия беско­неч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Кривую линию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удобно моделировать из шнура. Кривая ли­ния также бесконечна (если она не замкнутая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Линии могут быть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замкнутыми и незамкнутым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Линии могут быть расположены на плоскости и в простран­ст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сновные взаимоотношения точки и прямой или кривой лин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Через одну точку можно провести множество прям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Через одну точку можно провести множество крив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Через две точки можно провести только одну пряму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Через две точки можно провести множество кривы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Цилиндр и пр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усть дана некоторая прямая 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бразующа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, которая перемещается в пространстве параллельно самой себе. Выберем на прямой некоторую точку. Эта точка, передвигаясь вместе с прямой в пространстве, определяет некоторую линию 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направляющую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. В результате такого перемещения прямая описывает некоторую поверх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Если направляющая является замкнутой ломаной линией, то получается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изматическая поверхност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Если направляющая – окружность, получается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круговая цилиндрическая поверх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Если направляющая – замкнутая кривая, то получается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цилиндрическая поверх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и пересечении получившейся поверхности двумя параллельными плоскостями получается либо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изм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либо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цилин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Если образующие перпендикулярны плоскостям оснований, то призма и цилиндр –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ямы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Если нет –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наклонны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Конус и пирами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усть дана некоторая точка в пространстве 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вершин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и луч, выходящий из этой точки 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бразующа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. Выберем на луче некоторую точку. Эта точка, передвигаясь вместе с лучом в пространстве, определяет некоторую линию 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направляющую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. Если луч будет перемещаться в пространстве так, что при этом постоянно будет проходить через неподвижную вершину, то он опишет некоторую поверхнос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Если направляющая – замкнутая ломаная, то получится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ирамидальная поверх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Если направляющая – замкнутая кривая, то получится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коническая поверх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Если полученную поверхность пересечь плоскостью, то получится либо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ирамид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либо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кону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Если плоскость основания перпендикулярна отрезку, соединяющему центр основания и вершину, то конус и пирамида –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ямы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Сфер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поверхность, состоящая из всех точек пространства, расположенных на данном расстоянии от данной точки –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центра сфер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Радиус сфер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отрезок, соединяющий центр и любую точку сфе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Диаметр сфер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отрезок, соединяющий две точки сферы и проходящий через ее цент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Ша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тело, ограниченное сферой – множество точек пространства, расположенных от данной точки на расстоянии, не большем данно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Шаровой сегмен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часть шара, отсекаемая от него плоскост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Шаровой сло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часть шара, расположенная между двумя параллельными плоскостями, пересекающими ша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уч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часть прямой, ограниченная с одной стороны. Луч имеет начало, но не имеет конц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ображение луч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чка А — начало луч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атематике луч обычно обозначается двумя буквами, на­пример: луч АС. Такая запись обозначает, что луч имеет началом точку А и «идет» в сторону, обозначенную буквой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учи могут быть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направленным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тивоположно направленным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трезо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— часть прямой, заключенная между двумя точ­ками. Множество, состоящее из всех  точек прямой, лежащих между двумя данными точками, включая эти точ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езок имеет определенную длину, которую можно изме­ри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трументом для измерения длин отрезков является ли­ней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Угол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— это часть плоскости, ограниченная двумя лучами, имеющими общее начал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Лучи, образующие угол, называются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сторонами угл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а их общее начало —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вершиной уг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Множество всех точек плоскости между сторонами угла –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внутренняя плоскость уг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Угол развернутый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если лучи, выходящие из одной точки, лежат на одной прям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Углы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равны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если при наложении их стороны совпадаю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ва угла, имеющих общую сторону и вершину, являются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смежными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если две другие их стороны лежат на одной прям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ва угла называются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вертикальными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если стороны одного являются дополнительными полупрямыми сторон друго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Прямой уго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— это угол, который по определению содер­жит 90 градус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ля получения модели прямого угла используют лист бумаги, сгибая его два раза соответствующим образо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ямой уго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Ломаная линия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бъединение отрезков, в котором конец каждого отрезка является началом следующего отрезка, и отрезки, имеющие общий конец, не лежат на одной прям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трезки, составляющие ломаную –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звенья ломаной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Точки соединения концов звеньев называют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вершинами ло­маной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Звенья ломаной должны быть соединены последова­тельно. Ломаная линия содержит конечное число звенье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Длина ломано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— сумма длин звеньев ломаной. Для нахо­ждения длины ломаной следует измерить длину каждого зве­на и результаты сложи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Ломаная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замкнута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если конец ее последнего звена совпадает с началом первого зве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Ломаную линию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удобно моделировать, используя счетные палочки или складной металлический мет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Ломаная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остая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если каждое звено имеет только одну общую точку с другим звеном (конец звена). Несмежные звенья не пересекаю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Например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ногоугольник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плоская фигура, ограниченная простой замкну­той ломаной. Сама ломаная –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раница многоугольника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звенья –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ороны многоугольни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точки пересечения звеньев –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ершины многоугольни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ло вершин многоугольника равно числу его сторо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ногоугольник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пуклый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если он лежит в одной полуплоскости относительно любой прямой, содержащей его сторон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иагональ многоугольни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отрезок, соединяющий две несоседние вершины многоугольн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ногоугольник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авильный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если все его стороны и все углы равны между соб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Треугольник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— многоугольник с тремя углами и сторонами, ограничен ломаной из трех звеньев. Фигура, состоящая из трех точек, не лежащих на одной прямой, и трех попарно соединяющих их отрезков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Виды треугольников в зависимости от длин сторон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Треугольники, у которых все стороны разной длины, назы­вают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разносторонним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Треугольники, у которых равны две стороны, называют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рав­нобедренными 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Среди равнобедренных треугольников есть такие, у которых равны все три стороны. Эти треугольники называют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равносто­ронним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Виды треугольников в зависимости от содержащихся в них углов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Остроугольным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считается треугольник, все углы которого острые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Прямоугольным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считается треугольник, который имеет один прямой угол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Тупоугольным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считается треугольник, который имеет один тупой угол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Например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В треугольнике не может быть больше одного прямого или тупого угл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Равносторонний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треугольник может быть только остро­угольным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рямоугольный и тупоугольный треугольники могут быть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равнобедренным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Разносторонними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могут быть и остроугольный, и прямо­угольный, и тупоугольный треугольник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Четырехугольник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— ограничен ломаной из четырех звень­ев, соответственно имеет четыре стороны и четыре вершины. Фигура, состоящая из четырех точек и четырех последовательно соединяющих их отрезков, при этом никакие три из данных точек не лежат на одной прямой, а соединяющие их отрезки не пересекаются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ершины четырехугольника называются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соседними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если они являются концами одной из сторон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Стороны четырехугольника, исходящие из одной вершины –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соседние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Параллелограмм –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четырехугольник, противоположные стороны которого попарно параллельны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Свойства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середина диагонали является центром симметрии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ротивоположные стороны равны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ротивоположные углы равны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каждая диагональ делит параллелограмм на два равных треугольника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диагонали делятся точкой пересечения пополам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Ромб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– (от гр. «бубен») – параллелограмм, все стороны которого равны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Свойства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диагонали взаимно перпендикулярны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диагонали ромба являются биссектрисами его углов (делят углы пополам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рямая, содержащая диагональ ромба, является его осью симметрии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имеет две оси симметрии – диагонали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Прямоугольник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— параллелограмм, у которого все углы прямые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Свойства: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диагонали равны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ерпендикуляр, проходящий через середины противоположных сторон прямоугольника, является его осью симметрии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имеет две оси симметрии – серединные перпендикуляры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Квадрат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— (от лат. «четырехугольник») прямоугольник, у которого все стороны равны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Объединяет свойства параллелограмма, ромба и прямоугольник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Имеет 4 оси симметрии – 2 диагонали и 2 серединных перпендикуляр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Трапеция –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от лат. «столик») четырехугольник, две стороны которого параллельны, а две другие не параллельны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араллельные стороны –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основани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непараллельные –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боковые стороны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Трапеция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прямоугольная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если одна из боковых сторон перпендикулярна основанию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Трапеция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равнобочная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если ее боковые стороны равны. Углы при основании тоже равны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2112A-9845-465D-AAA1-CEA14B95B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6B489-E476-4142-8CC0-55966704A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1CEBE-1952-420B-B88A-9B7563811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BDFDF-F294-4EBE-B72E-64F5E60E1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BDE68-0CFD-4795-8083-40E133E1E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D8BC3-3933-4858-A48E-7C908F98F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A3EDB-FE5D-4B38-96EF-14FFB8061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FA880-9B56-4975-9A0C-5E87EEE06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FBD39-1C2C-4A44-A066-C6CAF42E5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B8228-0CBF-4124-AB88-32D3E0F94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D168D-1749-4D74-BCA2-07E7D047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6A1EF-2680-48A1-937C-97F150A2A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89642-59BC-4FA2-96B1-77144AD6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FCCD2-DD0F-4335-B24F-5F63403D4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DE0EA-424F-4500-ADD8-33547A4D0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0D2F8-0B47-4C7B-B594-884331499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E9078-8127-4D78-9298-A397EC5A7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FA2CC-5CA0-42DA-AC6D-58FA83AA0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E4D31-0ED5-44ED-9B1B-AE22F9F95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5CDD7-0C2B-489D-AB63-1DF4B122F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C3F12-9260-4F45-8B2C-455CF679B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7B5E2-5909-4ABA-A455-720E5FCD9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AA997-B887-4F67-985B-44EBF45B6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6F583-3AB7-4374-B9A7-034B254EF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B9734-7D93-486C-9F94-8F268E42F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5F051-AE33-4944-88A8-F2A42D1EB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EBE83-529D-4200-869D-2DC39BB47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31C35-4D7A-4DAB-8FB6-448F3EE07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86746-E4A0-4503-A0CF-926DBC1FE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12A5E-F9BE-4B4E-BEE3-56FFBD393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3EAE6-F40D-46A6-B45A-4B575ACD2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D650A-932A-44AC-8F84-F41CEBBC1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522FC-6954-4235-905E-F86E3CB8F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DD05D-6474-4629-AAD9-A1B4F61AC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9F433-4397-415F-8FAE-638A1321D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98E4F-AD18-4F7B-A861-7AC875AA6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42ADB-E57C-46B5-848F-D749BACCF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6AF60-24ED-46E5-B344-B06161260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80C94-0223-4ABC-A2D0-70673B95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D1237-FA80-411A-8C1F-3B8A45FA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579E4-FDB2-4941-90EE-95027B12D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25278-F7B0-413A-8029-4B9A718C1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6120A-F326-40A6-A126-E6D160499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A0A10-F911-44EC-9D50-2C20CC72C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1BBFB-33A9-4F4C-8DC7-883BEA729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AD8F8-5FF6-4C6A-B4DE-ECBE2DCF2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50C76-A6A2-4163-B1E0-29A6B72D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28B4F-4BDF-45D4-A358-311045FB1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7ECD8-8648-485A-84A9-8B6E7CFAE8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D2AF0-9013-4D73-B057-CF522E1542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07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DDACD-6C3E-4F6D-A60B-E9F22044219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dt" idx="10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81C99-6E2B-450E-92BF-7790002058A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png"/><Relationship Id="rId5" Type="http://schemas.openxmlformats.org/officeDocument/2006/relationships/image" Target="../media/image29.jpeg"/><Relationship Id="rId6" Type="http://schemas.openxmlformats.org/officeDocument/2006/relationships/image" Target="../media/image30.png"/><Relationship Id="rId7" Type="http://schemas.openxmlformats.org/officeDocument/2006/relationships/image" Target="../media/image31.jpeg"/><Relationship Id="rId8" Type="http://schemas.openxmlformats.org/officeDocument/2006/relationships/image" Target="../media/image32.png"/><Relationship Id="rId9" Type="http://schemas.openxmlformats.org/officeDocument/2006/relationships/image" Target="../media/image33.jpe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image" Target="../media/image46.jpeg"/><Relationship Id="rId7" Type="http://schemas.openxmlformats.org/officeDocument/2006/relationships/image" Target="../media/image47.jpeg"/><Relationship Id="rId8" Type="http://schemas.openxmlformats.org/officeDocument/2006/relationships/image" Target="../media/image48.jpeg"/><Relationship Id="rId9" Type="http://schemas.openxmlformats.org/officeDocument/2006/relationships/image" Target="../media/image49.jpeg"/><Relationship Id="rId10" Type="http://schemas.openxmlformats.org/officeDocument/2006/relationships/image" Target="../media/image50.jpeg"/><Relationship Id="rId11" Type="http://schemas.openxmlformats.org/officeDocument/2006/relationships/image" Target="../media/image51.jpeg"/><Relationship Id="rId12" Type="http://schemas.openxmlformats.org/officeDocument/2006/relationships/image" Target="../media/image52.jpeg"/><Relationship Id="rId13" Type="http://schemas.openxmlformats.org/officeDocument/2006/relationships/image" Target="../media/image53.jpeg"/><Relationship Id="rId1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image" Target="../media/image57.jpeg"/><Relationship Id="rId5" Type="http://schemas.openxmlformats.org/officeDocument/2006/relationships/image" Target="../media/image58.png"/><Relationship Id="rId6" Type="http://schemas.openxmlformats.org/officeDocument/2006/relationships/image" Target="../media/image59.jpeg"/><Relationship Id="rId7" Type="http://schemas.openxmlformats.org/officeDocument/2006/relationships/image" Target="../media/image60.jpeg"/><Relationship Id="rId8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image" Target="../media/image64.jpeg"/><Relationship Id="rId5" Type="http://schemas.openxmlformats.org/officeDocument/2006/relationships/image" Target="../media/image65.jpeg"/><Relationship Id="rId6" Type="http://schemas.openxmlformats.org/officeDocument/2006/relationships/image" Target="../media/image66.jpeg"/><Relationship Id="rId7" Type="http://schemas.openxmlformats.org/officeDocument/2006/relationships/image" Target="../media/image67.jpeg"/><Relationship Id="rId8" Type="http://schemas.openxmlformats.org/officeDocument/2006/relationships/image" Target="../media/image68.jpeg"/><Relationship Id="rId9" Type="http://schemas.openxmlformats.org/officeDocument/2006/relationships/image" Target="../media/image69.jpeg"/><Relationship Id="rId10" Type="http://schemas.openxmlformats.org/officeDocument/2006/relationships/image" Target="../media/image70.jpeg"/><Relationship Id="rId11" Type="http://schemas.openxmlformats.org/officeDocument/2006/relationships/image" Target="../media/image71.jpeg"/><Relationship Id="rId12" Type="http://schemas.openxmlformats.org/officeDocument/2006/relationships/image" Target="../media/image72.jpeg"/><Relationship Id="rId1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Геометрические фигуры и тела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402920" y="4868640"/>
            <a:ext cx="758844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езентацию подготовил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абова Марина Анатольев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нд. пед. наук, доцент кафедры ПМДО КГП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50920" y="4076640"/>
            <a:ext cx="2519280" cy="25606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Паркеты из многоуголь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 многоугольников можно составлять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аркет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арке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покрытие плоскости многоугольниками сплошь, без просветов и двойных покрытий. Любые два многоугольника имеют либо общую сторону, либо общую вершину, либо не имеют общих точ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авильный парке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такой паркет из правильных многоугольников, в котором вокруг любой вершины многоугольники расположены одним и тем же способом (вокруг всех вершин в одном и том же порядке следуют многоугольники одних и тех же наименов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940360" y="2637000"/>
            <a:ext cx="32036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сего возможны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1 правильных паркет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3,3,3,3,3,3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4,4,4,4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6,6,6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8,4,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4,3,3,4,3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2,6,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6,4,3,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2,3,1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4,3,3,3,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6,3,6,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6,3,3,3,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0" y="1197000"/>
            <a:ext cx="6048000" cy="5660640"/>
            <a:chOff x="0" y="1197000"/>
            <a:chExt cx="6048000" cy="5660640"/>
          </a:xfrm>
        </p:grpSpPr>
        <p:pic>
          <p:nvPicPr>
            <p:cNvPr id="272" name="Ris_4" descr=""/>
            <p:cNvPicPr/>
            <p:nvPr/>
          </p:nvPicPr>
          <p:blipFill>
            <a:blip r:embed="rId1"/>
            <a:stretch/>
          </p:blipFill>
          <p:spPr>
            <a:xfrm rot="5400000">
              <a:off x="773280" y="1582920"/>
              <a:ext cx="4501080" cy="60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Ris_3" descr=""/>
            <p:cNvPicPr/>
            <p:nvPr/>
          </p:nvPicPr>
          <p:blipFill>
            <a:blip r:embed="rId2"/>
            <a:stretch/>
          </p:blipFill>
          <p:spPr>
            <a:xfrm>
              <a:off x="0" y="1197000"/>
              <a:ext cx="6048000" cy="120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19AA0-7C25-4508-90A4-C81FF1AA9ED5}" type="slidenum">
              <a:t>10</a:t>
            </a:fld>
          </a:p>
        </p:txBody>
      </p:sp>
    </p:spTree>
  </p:cSld>
  <p:transition>
    <p:push dir="d"/>
  </p:transition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0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500"/>
                            </p:stCondLst>
                            <p:childTnLst>
                              <p:par>
                                <p:cTn id="64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5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000"/>
                            </p:stCondLst>
                            <p:childTnLst>
                              <p:par>
                                <p:cTn id="67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5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Окружность и кр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кружность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— это замкнутая кривая линия, состоящая из точек, находящихся на одинаковом расстоянии от заданной точки О. Множество всех точек плоскости, находящихся на одном и том же расстоянии от данной точки плоск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очка О называется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центром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кружности (от лат. «острый конец палочки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Радиус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— (от лат. «спица колеса») отрезок, соединяющий центр окружности с какой-нибудь ее точк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Хорда окружно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отрезок, концы которого принадлежат окруж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Диаметр окружност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— (от гр. «поперечник»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резок (хорда), проходящий через центр окруж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круга) и соединяющий две любые ее точ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Диаметр равен двум радиусам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руг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— часть плоскости, ограниченная окружностью. Множество всех точек плоскости, расстояние которых от некоторой данной точки плоскости (центра) не больше данн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раница круг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— окруж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ектор 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часть круга между двумя его радиус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егмент 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часть круга, ограниченная хордой и стягиваемой ею дуг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403280" y="2349360"/>
            <a:ext cx="3672000" cy="3667320"/>
          </a:xfrm>
          <a:prstGeom prst="flowChartOr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6877080" y="3290760"/>
            <a:ext cx="1798560" cy="1689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AF4DA-B402-459B-B3EF-0D7563E56A0C}" type="slidenum">
              <a:t>11</a:t>
            </a:fld>
          </a:p>
        </p:txBody>
      </p:sp>
    </p:spTree>
  </p:cSld>
  <p:transition>
    <p:randomBar dir="horz"/>
  </p:transition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0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2000"/>
                            </p:stCondLst>
                            <p:childTnLst>
                              <p:par>
                                <p:cTn id="69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2000"/>
                            </p:stCondLst>
                            <p:childTnLst>
                              <p:par>
                                <p:cTn id="70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04" dur="5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8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4000"/>
                            </p:stCondLst>
                            <p:childTnLst>
                              <p:par>
                                <p:cTn id="71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4000"/>
                            </p:stCondLst>
                            <p:childTnLst>
                              <p:par>
                                <p:cTn id="72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1000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4000"/>
                            </p:stCondLst>
                            <p:childTnLst>
                              <p:par>
                                <p:cTn id="73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100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4000"/>
                            </p:stCondLst>
                            <p:childTnLst>
                              <p:par>
                                <p:cTn id="73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3" dur="500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4000"/>
                            </p:stCondLst>
                            <p:childTnLst>
                              <p:par>
                                <p:cTn id="74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2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2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2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6" dur="80"/>
                                        <p:tgtEl>
                                          <p:spTgt spid="2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7" dur="80"/>
                                        <p:tgtEl>
                                          <p:spTgt spid="2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8" dur="80"/>
                                        <p:tgtEl>
                                          <p:spTgt spid="2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Краткая характеристика основных понятий стереомет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тереометрия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дел геометрии, который изучает свойства всех фигур простран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бъемные фигуры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геометрии чаще называют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ел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еометрическое тело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граниченная связная фигура в пространстве, которая содержит все свои граничные точ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Фигура ограниченная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если ее можно заключить в какую-либо сфе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Фигура связная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если любые две ее точки можно соединить непрерывной линией, целиком принадлежащей фигу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16489-5A43-4239-8F31-5462BE5DFB83}" type="slidenum">
              <a:t>12</a:t>
            </a:fld>
          </a:p>
        </p:txBody>
      </p:sp>
    </p:spTree>
  </p:cSld>
  <p:transition>
    <p:circle/>
  </p:transition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0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6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Многогранник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96472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ногогранник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тело, поверхность которого состоит из конечного числа плоских многоуголь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ани многогранни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лоские многоугольники, образующие его поверхность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бр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стороны граней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ршины многогранник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вершины граней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агональ многогранни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отрезок, соединяющий две вершины, не принадлежащие одной гра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огранник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пуклый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если он лежит целиком по одну сторону от плоскости любой его грани. Вместе с двумя любыми точками содержит целиком весь отрезок, соединяющий эти точки. Грани – выпуклые многоуголь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любом выпуклом многограннике выполняется условие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2, гд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число вершин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число ребер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число граней (теорема Эйлер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250920" y="1052640"/>
            <a:ext cx="8640720" cy="5113080"/>
            <a:chOff x="250920" y="1052640"/>
            <a:chExt cx="8640720" cy="5113080"/>
          </a:xfrm>
        </p:grpSpPr>
        <p:pic>
          <p:nvPicPr>
            <p:cNvPr id="283" name="" descr=""/>
            <p:cNvPicPr/>
            <p:nvPr/>
          </p:nvPicPr>
          <p:blipFill>
            <a:blip r:embed="rId1"/>
            <a:stretch/>
          </p:blipFill>
          <p:spPr>
            <a:xfrm>
              <a:off x="250920" y="1052640"/>
              <a:ext cx="8640720" cy="511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250920" y="5229360"/>
              <a:ext cx="4535280" cy="93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2CD58-88F2-4CD1-8382-9321D92096D2}" type="slidenum">
              <a:t>13</a:t>
            </a:fld>
          </a:p>
        </p:txBody>
      </p:sp>
    </p:spTree>
  </p:cSld>
  <p:transition>
    <p:diamond/>
  </p:transition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0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4" dur="10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1000"/>
                            </p:stCondLst>
                            <p:childTnLst>
                              <p:par>
                                <p:cTn id="85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2" dur="10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2000"/>
                            </p:stCondLst>
                            <p:childTnLst>
                              <p:par>
                                <p:cTn id="86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0" dur="10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9" dur="10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4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Тела вращени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86868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ела враще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образуются при враще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лоской фигуры вокруг не пересекающей ее ос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меют гладкие криволинейные поверх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ямой круговой цилиндр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гр. «вали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ток»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учается вращением прямо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круг одной из стор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ямой круговой кону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лат. «шишка»)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ращением прямоугольного треугольн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круг кат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Шар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ращением полукруга вокруг диамет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7164360" y="189000"/>
            <a:ext cx="1979280" cy="6668640"/>
            <a:chOff x="7164360" y="189000"/>
            <a:chExt cx="1979280" cy="6668640"/>
          </a:xfrm>
        </p:grpSpPr>
        <p:pic>
          <p:nvPicPr>
            <p:cNvPr id="288" name="" descr=""/>
            <p:cNvPicPr/>
            <p:nvPr/>
          </p:nvPicPr>
          <p:blipFill>
            <a:blip r:embed="rId1"/>
            <a:stretch/>
          </p:blipFill>
          <p:spPr>
            <a:xfrm>
              <a:off x="7164360" y="189000"/>
              <a:ext cx="1970640" cy="254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" descr=""/>
            <p:cNvPicPr/>
            <p:nvPr/>
          </p:nvPicPr>
          <p:blipFill>
            <a:blip r:embed="rId2"/>
            <a:stretch/>
          </p:blipFill>
          <p:spPr>
            <a:xfrm>
              <a:off x="7164360" y="2711880"/>
              <a:ext cx="1979280" cy="242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" descr=""/>
            <p:cNvPicPr/>
            <p:nvPr/>
          </p:nvPicPr>
          <p:blipFill>
            <a:blip r:embed="rId3"/>
            <a:stretch/>
          </p:blipFill>
          <p:spPr>
            <a:xfrm>
              <a:off x="7164360" y="5055840"/>
              <a:ext cx="1942920" cy="180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C0286-62AE-4A91-A46B-1AF4B8677AE8}" type="slidenum">
              <a:t>14</a:t>
            </a:fld>
          </a:p>
        </p:txBody>
      </p:sp>
    </p:spTree>
  </p:cSld>
  <p:transition>
    <p:split dir="in" orient="horz"/>
  </p:transition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0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afterEffect" fill="hold" presetClass="entr" presetID="5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5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1200"/>
                            </p:stCondLst>
                            <p:childTnLst>
                              <p:par>
                                <p:cTn id="89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899" dur="2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1200"/>
                            </p:stCondLst>
                            <p:childTnLst>
                              <p:par>
                                <p:cTn id="90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3" dur="20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4" dur="20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20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1200"/>
                            </p:stCondLst>
                            <p:childTnLst>
                              <p:par>
                                <p:cTn id="90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9" dur="50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5" dur="1000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8" dur="1000"/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1" dur="500"/>
                                        <p:tgtEl>
                                          <p:spTgt spid="2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2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2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6" dur="500"/>
                                        <p:tgtEl>
                                          <p:spTgt spid="2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2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2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2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5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Призм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зма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гр. «отпиленный кусочек»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ногогранник, две грани которого – равные многоугольники, лежащие в параллельных плоскостях, а остальные грани – параллелограм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сли боковые ребра перпендикулярны плоскостям оснований, то призма 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ямая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если нет 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клонн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сли в основании прямой призмы лежит правильный многоугольник, то призма 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авильн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араллелепипед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призма, основания которой  - параллелограм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ямоугольный параллелепипе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прямой параллелепипед, основание которого – прямоугольник. Все грани – прямоугольн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уб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прямоугольный параллелепипед, все ребра которого равны. Все грани – квадра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4005360"/>
            <a:ext cx="4537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строение изображения приз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роят основание (нижнее или верхнее – многоугольник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 вершин многоугольника строят параллельные прямы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прямых откладывают равные отрезки (высота призмы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единяют полученные точки (концы отрезков), получая второе осно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rcRect l="0" t="0" r="0" b="16916"/>
          <a:stretch/>
        </p:blipFill>
        <p:spPr>
          <a:xfrm>
            <a:off x="4356000" y="4005360"/>
            <a:ext cx="1470240" cy="183996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2"/>
          <a:srcRect l="0" t="0" r="0" b="12369"/>
          <a:stretch/>
        </p:blipFill>
        <p:spPr>
          <a:xfrm>
            <a:off x="7308720" y="4076640"/>
            <a:ext cx="1521000" cy="23036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3"/>
          <a:srcRect l="0" t="0" r="0" b="18294"/>
          <a:stretch/>
        </p:blipFill>
        <p:spPr>
          <a:xfrm>
            <a:off x="5867280" y="5373720"/>
            <a:ext cx="1359000" cy="129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037BC-4AE9-4BB7-85E4-AD786C139504}" type="slidenum">
              <a:t>15</a:t>
            </a:fld>
          </a:p>
        </p:txBody>
      </p:sp>
    </p:spTree>
  </p:cSld>
  <p:transition>
    <p:strips dir="ld"/>
  </p:transition>
  <p:timing>
    <p:tnLst>
      <p:par>
        <p:cTn id="954" dur="indefinite" restart="never" nodeType="tmRoot">
          <p:childTnLst>
            <p:seq>
              <p:cTn id="955" dur="indefinite" nodeType="mainSeq">
                <p:childTnLst>
                  <p:par>
                    <p:cTn id="956" fill="hold">
                      <p:stCondLst>
                        <p:cond delay="0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960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1000"/>
                            </p:stCondLst>
                            <p:childTnLst>
                              <p:par>
                                <p:cTn id="97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20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20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20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20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3000"/>
                            </p:stCondLst>
                            <p:childTnLst>
                              <p:par>
                                <p:cTn id="97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2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9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6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Пирами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ирамид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многогранник, одна из граней которого – произвольный многоугольник, а остальные – треугольники, имеющие общую верши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ирамида правильная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сли в ее основании правильный многоугольник, а основание высоты совпадает с центром осн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ысо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отрезок перпендикуляра, проведенный из вершины пирамиды к плоскости ее осн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сеченная пирами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часть пирамиды, заключенная между основанием и секущей плоскостью, параллельной основа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219640" y="3332160"/>
            <a:ext cx="3924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строение изображения пирамиды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на примере правильной пирамиды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роят основание, находят его центр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роят высоту, проводя отрезок из центра основания, отмечают на нем вершину пирамид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единяют отрезками вершины основания с вершиной пирами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395280" y="3213000"/>
            <a:ext cx="1763640" cy="159876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2916360" y="3141720"/>
            <a:ext cx="1699920" cy="180000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1187280" y="4869000"/>
            <a:ext cx="1743120" cy="180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E429E-A7AC-4105-99BB-1B292064C066}" type="slidenum">
              <a:t>16</a:t>
            </a:fld>
          </a:p>
        </p:txBody>
      </p:sp>
    </p:spTree>
  </p:cSld>
  <p:transition>
    <p:pull dir="d"/>
  </p:transition>
  <p:timing>
    <p:tnLst>
      <p:par>
        <p:cTn id="1039" dur="indefinite" restart="never" nodeType="tmRoot">
          <p:childTnLst>
            <p:seq>
              <p:cTn id="1040" dur="indefinite" nodeType="mainSeq">
                <p:childTnLst>
                  <p:par>
                    <p:cTn id="1041" fill="hold">
                      <p:stCondLst>
                        <p:cond delay="0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5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1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10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10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10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10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2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9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6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1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Правильные многогран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ногогранник правильный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сли все его грани – правильные равные многоугольники и все двугранные углы рав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войства правильных многогранник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се ребра равн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се плоские углы равн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се многогранные углы равн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се многогранные углы имеют одно и то же число граней, и в каждой вершине сходится одно и то же число ребе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Arial"/>
              </a:rPr>
              <a:t>Всего существует 5 видов правильных многогранников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395280" y="3645000"/>
            <a:ext cx="8209080" cy="321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A1108-AE8E-4121-887A-A949665CFB41}" type="slidenum">
              <a:t>17</a:t>
            </a:fld>
          </a:p>
        </p:txBody>
      </p:sp>
    </p:spTree>
  </p:cSld>
  <p:transition>
    <p:wedge/>
  </p:transition>
  <p:timing>
    <p:tnLst>
      <p:par>
        <p:cTn id="1102" dur="indefinite" restart="never" nodeType="tmRoot">
          <p:childTnLst>
            <p:seq>
              <p:cTn id="1103" dur="indefinite" nodeType="mainSeq">
                <p:childTnLst>
                  <p:par>
                    <p:cTn id="1104" fill="hold">
                      <p:stCondLst>
                        <p:cond delay="0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8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9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7" dur="5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12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5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5" dur="5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9" dur="500" fill="hold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3" dur="500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7" dur="500" fill="hold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1" dur="500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500"/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8" dur="500"/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Тетраэд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2535120" y="981000"/>
            <a:ext cx="3481560" cy="417672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826920" y="5589720"/>
            <a:ext cx="77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авильная треугольная пирами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5755D-7145-453E-92E6-242C8AF29C94}" type="slidenum">
              <a:t>18</a:t>
            </a:fld>
          </a:p>
        </p:txBody>
      </p:sp>
    </p:spTree>
  </p:cSld>
  <p:transition>
    <p:wheel spokes="1"/>
  </p:transition>
  <p:timing>
    <p:tnLst>
      <p:par>
        <p:cTn id="1175" dur="indefinite" restart="never" nodeType="tmRoot">
          <p:childTnLst>
            <p:seq>
              <p:cTn id="1176" dur="indefinite" nodeType="mainSeq">
                <p:childTnLst>
                  <p:par>
                    <p:cTn id="1177" fill="hold">
                      <p:stCondLst>
                        <p:cond delay="0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9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2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Гексаэд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2556000" y="1268280"/>
            <a:ext cx="3797280" cy="38862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324000" y="5373720"/>
            <a:ext cx="849600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авильный шестигранни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авильная четырехугольная призма, прямоугольный параллелепипед с равными ребрами, к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A8F7A-6391-47E3-A22D-D0C4996CAC27}" type="slidenum">
              <a:t>19</a:t>
            </a:fld>
          </a:p>
        </p:txBody>
      </p:sp>
    </p:spTree>
  </p:cSld>
  <p:transition>
    <p:wheel spokes="2"/>
  </p:transition>
  <p:timing>
    <p:tnLst>
      <p:par>
        <p:cTn id="1193" dur="indefinite" restart="never" nodeType="tmRoot">
          <p:childTnLst>
            <p:seq>
              <p:cTn id="1194" dur="indefinite" nodeType="mainSeq">
                <p:childTnLst>
                  <p:par>
                    <p:cTn id="1195" fill="hold">
                      <p:stCondLst>
                        <p:cond delay="0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9" dur="8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0" dur="8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8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8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09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12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1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1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1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Основные понятия геомет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96472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очк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 неопределяемое понятие геометрии, элемент пространства. Считается, что точка не имеет ни длины, ни ширины, ни площад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ямая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новное неопределяемое понятие, подмножество простран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лоскост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основное неопределяемое понятие, специальное подмножество простран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еометрическая фигу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множество точ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войства и взаимосвязи основных понятий описываются с помощью определенной групп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ксиом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ерез основные понятия вводятс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пределе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всех других геометрических понят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основании аксиом и определений доказываю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еор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92D76-B512-49B7-A522-7821BD15E4F5}" type="slidenum">
              <a:t>2</a:t>
            </a:fld>
          </a:p>
        </p:txBody>
      </p:sp>
    </p:spTree>
  </p:cSld>
  <p:transition>
    <p:blinds dir="ver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Октаэд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2987640" y="1341360"/>
            <a:ext cx="3179880" cy="388620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1258920" y="5734080"/>
            <a:ext cx="734544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вильный восьмигранни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пирамида четырехуго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589A1-ABE0-4E46-B70B-E6B8E24E9E50}" type="slidenum">
              <a:t>20</a:t>
            </a:fld>
          </a:p>
        </p:txBody>
      </p:sp>
    </p:spTree>
  </p:cSld>
  <p:transition>
    <p:wheel spokes="3"/>
  </p:transition>
  <p:timing>
    <p:tnLst>
      <p:par>
        <p:cTn id="1216" dur="indefinite" restart="never" nodeType="tmRoot">
          <p:childTnLst>
            <p:seq>
              <p:cTn id="1217" dur="indefinite" nodeType="mainSeq">
                <p:childTnLst>
                  <p:par>
                    <p:cTn id="1218" fill="hold">
                      <p:stCondLst>
                        <p:cond delay="0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2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27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Додекаэд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1979640" y="1628640"/>
            <a:ext cx="5256360" cy="272592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187280" y="515772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авильный двенадцатигран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75D1D-36D0-48FE-8B1C-94859A2F2EB7}" type="slidenum">
              <a:t>21</a:t>
            </a:fld>
          </a:p>
        </p:txBody>
      </p:sp>
    </p:spTree>
  </p:cSld>
  <p:transition>
    <p:wheel/>
  </p:transition>
  <p:timing>
    <p:tnLst>
      <p:par>
        <p:cTn id="1231" dur="indefinite" restart="never" nodeType="tmRoot">
          <p:childTnLst>
            <p:seq>
              <p:cTn id="1232" dur="indefinite" nodeType="mainSeq">
                <p:childTnLst>
                  <p:par>
                    <p:cTn id="1233" fill="hold">
                      <p:stCondLst>
                        <p:cond delay="0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37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2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5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Икосаэд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2124000" y="1484280"/>
            <a:ext cx="5040360" cy="298620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1547640" y="5229360"/>
            <a:ext cx="61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авильный двадцатигран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21A2B-4A59-4D70-A9CD-B81EB9764729}" type="slidenum">
              <a:t>22</a:t>
            </a:fld>
          </a:p>
        </p:txBody>
      </p:sp>
    </p:spTree>
  </p:cSld>
  <p:transition>
    <p:wheel spokes="8"/>
  </p:transition>
  <p:timing>
    <p:tnLst>
      <p:par>
        <p:cTn id="1246" dur="indefinite" restart="never" nodeType="tmRoot">
          <p:childTnLst>
            <p:seq>
              <p:cTn id="1247" dur="indefinite" nodeType="mainSeq">
                <p:childTnLst>
                  <p:par>
                    <p:cTn id="1248" fill="hold">
                      <p:stCondLst>
                        <p:cond delay="0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2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4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9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2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Правильные многогран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50716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ифагорейцы считали правильные многогранники божественными фигурами. Праосновам бытия приписывалась форма правильных многогранни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551664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ние пифагорейцев изложил в своих трудах Платон. С тех пор правильные многогранники называют </a:t>
            </a:r>
            <a:r>
              <a:rPr b="1" lang="ru-RU" sz="2000" spc="-1" strike="noStrike">
                <a:solidFill>
                  <a:srgbClr val="cc00cc"/>
                </a:solidFill>
                <a:latin typeface="Arial"/>
              </a:rPr>
              <a:t>платоновыми тела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вклид доказал, что других правильных многогранников не существу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1476360" y="2133720"/>
            <a:ext cx="2506680" cy="1223640"/>
            <a:chOff x="1476360" y="2133720"/>
            <a:chExt cx="2506680" cy="1223640"/>
          </a:xfrm>
        </p:grpSpPr>
        <p:pic>
          <p:nvPicPr>
            <p:cNvPr id="325" name="" descr=""/>
            <p:cNvPicPr/>
            <p:nvPr/>
          </p:nvPicPr>
          <p:blipFill>
            <a:blip r:embed="rId1"/>
            <a:stretch/>
          </p:blipFill>
          <p:spPr>
            <a:xfrm>
              <a:off x="1476360" y="2133720"/>
              <a:ext cx="1485720" cy="120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" descr=""/>
            <p:cNvPicPr/>
            <p:nvPr/>
          </p:nvPicPr>
          <p:blipFill>
            <a:blip r:embed="rId2"/>
            <a:stretch/>
          </p:blipFill>
          <p:spPr>
            <a:xfrm>
              <a:off x="2916000" y="2133720"/>
              <a:ext cx="1067040" cy="122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7" name=""/>
          <p:cNvGrpSpPr/>
          <p:nvPr/>
        </p:nvGrpSpPr>
        <p:grpSpPr>
          <a:xfrm>
            <a:off x="5076720" y="2133720"/>
            <a:ext cx="2525400" cy="1224000"/>
            <a:chOff x="5076720" y="2133720"/>
            <a:chExt cx="2525400" cy="1224000"/>
          </a:xfrm>
        </p:grpSpPr>
        <p:pic>
          <p:nvPicPr>
            <p:cNvPr id="328" name="" descr=""/>
            <p:cNvPicPr/>
            <p:nvPr/>
          </p:nvPicPr>
          <p:blipFill>
            <a:blip r:embed="rId3"/>
            <a:stretch/>
          </p:blipFill>
          <p:spPr>
            <a:xfrm>
              <a:off x="5076720" y="2133720"/>
              <a:ext cx="146988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" descr=""/>
            <p:cNvPicPr/>
            <p:nvPr/>
          </p:nvPicPr>
          <p:blipFill>
            <a:blip r:embed="rId4"/>
            <a:stretch/>
          </p:blipFill>
          <p:spPr>
            <a:xfrm>
              <a:off x="6516360" y="2133720"/>
              <a:ext cx="1085760" cy="1209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0" name=""/>
          <p:cNvGrpSpPr/>
          <p:nvPr/>
        </p:nvGrpSpPr>
        <p:grpSpPr>
          <a:xfrm>
            <a:off x="179280" y="3860640"/>
            <a:ext cx="2563920" cy="1152360"/>
            <a:chOff x="179280" y="3860640"/>
            <a:chExt cx="2563920" cy="1152360"/>
          </a:xfrm>
        </p:grpSpPr>
        <p:pic>
          <p:nvPicPr>
            <p:cNvPr id="331" name="" descr=""/>
            <p:cNvPicPr/>
            <p:nvPr/>
          </p:nvPicPr>
          <p:blipFill>
            <a:blip r:embed="rId5"/>
            <a:stretch/>
          </p:blipFill>
          <p:spPr>
            <a:xfrm>
              <a:off x="179280" y="3860640"/>
              <a:ext cx="1470240" cy="115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" descr=""/>
            <p:cNvPicPr/>
            <p:nvPr/>
          </p:nvPicPr>
          <p:blipFill>
            <a:blip r:embed="rId6"/>
            <a:stretch/>
          </p:blipFill>
          <p:spPr>
            <a:xfrm>
              <a:off x="1619280" y="3860640"/>
              <a:ext cx="1123920" cy="1152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3" name=""/>
          <p:cNvGrpSpPr/>
          <p:nvPr/>
        </p:nvGrpSpPr>
        <p:grpSpPr>
          <a:xfrm>
            <a:off x="3132000" y="4149720"/>
            <a:ext cx="2573640" cy="1181160"/>
            <a:chOff x="3132000" y="4149720"/>
            <a:chExt cx="2573640" cy="1181160"/>
          </a:xfrm>
        </p:grpSpPr>
        <p:pic>
          <p:nvPicPr>
            <p:cNvPr id="334" name="" descr=""/>
            <p:cNvPicPr/>
            <p:nvPr/>
          </p:nvPicPr>
          <p:blipFill>
            <a:blip r:embed="rId7"/>
            <a:stretch/>
          </p:blipFill>
          <p:spPr>
            <a:xfrm>
              <a:off x="3132000" y="4149720"/>
              <a:ext cx="1444680" cy="115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" descr=""/>
            <p:cNvPicPr/>
            <p:nvPr/>
          </p:nvPicPr>
          <p:blipFill>
            <a:blip r:embed="rId8"/>
            <a:stretch/>
          </p:blipFill>
          <p:spPr>
            <a:xfrm>
              <a:off x="4572000" y="4149720"/>
              <a:ext cx="113364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6" name=""/>
          <p:cNvGrpSpPr/>
          <p:nvPr/>
        </p:nvGrpSpPr>
        <p:grpSpPr>
          <a:xfrm>
            <a:off x="6156360" y="3860640"/>
            <a:ext cx="2574360" cy="1152720"/>
            <a:chOff x="6156360" y="3860640"/>
            <a:chExt cx="2574360" cy="1152720"/>
          </a:xfrm>
        </p:grpSpPr>
        <p:pic>
          <p:nvPicPr>
            <p:cNvPr id="337" name="" descr=""/>
            <p:cNvPicPr/>
            <p:nvPr/>
          </p:nvPicPr>
          <p:blipFill>
            <a:blip r:embed="rId9"/>
            <a:stretch/>
          </p:blipFill>
          <p:spPr>
            <a:xfrm>
              <a:off x="6156360" y="3860640"/>
              <a:ext cx="1428480" cy="115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" descr=""/>
            <p:cNvPicPr/>
            <p:nvPr/>
          </p:nvPicPr>
          <p:blipFill>
            <a:blip r:embed="rId10"/>
            <a:stretch/>
          </p:blipFill>
          <p:spPr>
            <a:xfrm>
              <a:off x="7597440" y="3860640"/>
              <a:ext cx="1133280" cy="1152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CF468-2C1B-40D6-B347-80CF540AED2E}" type="slidenum">
              <a:t>23</a:t>
            </a:fld>
          </a:p>
        </p:txBody>
      </p:sp>
    </p:spTree>
  </p:cSld>
  <p:transition>
    <p:wipe dir="d"/>
  </p:transition>
  <p:timing>
    <p:tnLst>
      <p:par>
        <p:cTn id="1266" dur="indefinite" restart="never" nodeType="tmRoot">
          <p:childTnLst>
            <p:seq>
              <p:cTn id="1267" dur="indefinite" nodeType="mainSeq">
                <p:childTnLst>
                  <p:par>
                    <p:cTn id="1268" fill="hold">
                      <p:stCondLst>
                        <p:cond delay="0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fill="hold">
                            <p:stCondLst>
                              <p:cond delay="500"/>
                            </p:stCondLst>
                            <p:childTnLst>
                              <p:par>
                                <p:cTn id="12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6" dur="1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1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8" dur="1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3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6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1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4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9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2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7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0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5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8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262226321" descr=""/>
          <p:cNvPicPr/>
          <p:nvPr/>
        </p:nvPicPr>
        <p:blipFill>
          <a:blip r:embed="rId1"/>
          <a:stretch/>
        </p:blipFill>
        <p:spPr>
          <a:xfrm>
            <a:off x="1619280" y="1333440"/>
            <a:ext cx="5832360" cy="487512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cc"/>
                </a:solidFill>
                <a:latin typeface="Arial"/>
              </a:rPr>
              <a:t>Почему их только 5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250560" y="1699920"/>
            <a:ext cx="8893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мма плоских углов выпуклого многогранного угла меньше 36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этому в одной вершине может сходить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авильных треуголь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 (18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- тетраэд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 (24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- октаэд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 (30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- икосаэд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вадратов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3 (27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- ку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ятиугольник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3 (32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- додекаэ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4E8E8-5C1A-48E4-A570-DCC205502CDA}" type="slidenum">
              <a:t>24</a:t>
            </a:fld>
          </a:p>
        </p:txBody>
      </p:sp>
    </p:spTree>
  </p:cSld>
  <p:transition>
    <p:wipe dir="l"/>
  </p:transition>
  <p:timing>
    <p:tnLst>
      <p:par>
        <p:cTn id="1324" dur="indefinite" restart="never" nodeType="tmRoot">
          <p:childTnLst>
            <p:seq>
              <p:cTn id="1325" dur="indefinite" nodeType="mainSeq">
                <p:childTnLst>
                  <p:par>
                    <p:cTn id="1326" fill="hold">
                      <p:stCondLst>
                        <p:cond delay="0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0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4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9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2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7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8" fill="hold">
                            <p:stCondLst>
                              <p:cond delay="500"/>
                            </p:stCondLst>
                            <p:childTnLst>
                              <p:par>
                                <p:cTn id="13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1" dur="5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6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1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6" dur="500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6" dur="500"/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1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675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Развертки правильных многогран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4103640" cy="194796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611280" y="4653000"/>
            <a:ext cx="3024000" cy="173520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3"/>
          <a:stretch/>
        </p:blipFill>
        <p:spPr>
          <a:xfrm>
            <a:off x="5435640" y="1125360"/>
            <a:ext cx="2736720" cy="207972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4"/>
          <a:stretch/>
        </p:blipFill>
        <p:spPr>
          <a:xfrm>
            <a:off x="2916360" y="2637000"/>
            <a:ext cx="2663640" cy="205092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5"/>
          <a:stretch/>
        </p:blipFill>
        <p:spPr>
          <a:xfrm>
            <a:off x="4572000" y="4508640"/>
            <a:ext cx="4140360" cy="210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27765-52D0-4A06-892F-ABFC4E6F6219}" type="slidenum">
              <a:t>25</a:t>
            </a:fld>
          </a:p>
        </p:txBody>
      </p:sp>
    </p:spTree>
  </p:cSld>
  <p:transition>
    <p:wipe dir="u"/>
  </p:transition>
  <p:timing>
    <p:tnLst>
      <p:par>
        <p:cTn id="1382" dur="indefinite" restart="never" nodeType="tmRoot">
          <p:childTnLst>
            <p:seq>
              <p:cTn id="1383" dur="indefinite" nodeType="mainSeq">
                <p:childTnLst>
                  <p:par>
                    <p:cTn id="1384" fill="hold">
                      <p:stCondLst>
                        <p:cond delay="0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3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6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1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4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9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2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7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0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5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8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Полуправильные многогран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рхимед открыл и описал 13 видов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луправильных многограннико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которые называют телами Архиме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е многогранные углы их равны, а грани – разноименные правильные многоугольн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луправильные многогранники можно получить из правильных операцией усечения уг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F1FB4-81E9-4539-A180-40BA69DF3DE5}" type="slidenum">
              <a:t>26</a:t>
            </a:fld>
          </a:p>
        </p:txBody>
      </p:sp>
    </p:spTree>
  </p:cSld>
  <p:transition>
    <p:random/>
  </p:transition>
  <p:timing>
    <p:tnLst>
      <p:par>
        <p:cTn id="1429" dur="indefinite" restart="never" nodeType="tmRoot">
          <p:childTnLst>
            <p:seq>
              <p:cTn id="1430" dur="indefinite" nodeType="mainSeq">
                <p:childTnLst>
                  <p:par>
                    <p:cTn id="1431" fill="hold">
                      <p:stCondLst>
                        <p:cond delay="0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3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6" fill="hold">
                            <p:stCondLst>
                              <p:cond delay="500"/>
                            </p:stCondLst>
                            <p:childTnLst>
                              <p:par>
                                <p:cTn id="143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9" dur="10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10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10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10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4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5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5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3" dur="5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Полуправильные многогран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627280" y="6093000"/>
            <a:ext cx="43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Arial"/>
              </a:rPr>
              <a:t>Тела Архиме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7093080" y="4797360"/>
            <a:ext cx="1428480" cy="140328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468360" y="4797360"/>
            <a:ext cx="1428840" cy="145404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3"/>
          <a:stretch/>
        </p:blipFill>
        <p:spPr>
          <a:xfrm>
            <a:off x="3851280" y="4221000"/>
            <a:ext cx="1428840" cy="126540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4"/>
          <a:stretch/>
        </p:blipFill>
        <p:spPr>
          <a:xfrm>
            <a:off x="2050920" y="4076640"/>
            <a:ext cx="1428840" cy="148608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5"/>
          <a:stretch/>
        </p:blipFill>
        <p:spPr>
          <a:xfrm>
            <a:off x="5508720" y="4292640"/>
            <a:ext cx="1428480" cy="131436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6"/>
          <a:stretch/>
        </p:blipFill>
        <p:spPr>
          <a:xfrm>
            <a:off x="2700360" y="2708280"/>
            <a:ext cx="1428840" cy="130644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7"/>
          <a:stretch/>
        </p:blipFill>
        <p:spPr>
          <a:xfrm>
            <a:off x="5219640" y="1125360"/>
            <a:ext cx="1428840" cy="142092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8"/>
          <a:stretch/>
        </p:blipFill>
        <p:spPr>
          <a:xfrm>
            <a:off x="4788000" y="2637000"/>
            <a:ext cx="1428480" cy="144432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9"/>
          <a:stretch/>
        </p:blipFill>
        <p:spPr>
          <a:xfrm>
            <a:off x="6732720" y="2708280"/>
            <a:ext cx="1428480" cy="144468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10"/>
          <a:stretch/>
        </p:blipFill>
        <p:spPr>
          <a:xfrm>
            <a:off x="1042920" y="2492280"/>
            <a:ext cx="1428840" cy="144468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11"/>
          <a:stretch/>
        </p:blipFill>
        <p:spPr>
          <a:xfrm>
            <a:off x="2771640" y="1052640"/>
            <a:ext cx="1428840" cy="142848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12"/>
          <a:stretch/>
        </p:blipFill>
        <p:spPr>
          <a:xfrm>
            <a:off x="755640" y="981000"/>
            <a:ext cx="1428840" cy="13874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13"/>
          <a:stretch/>
        </p:blipFill>
        <p:spPr>
          <a:xfrm>
            <a:off x="7164360" y="112536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294EF-C552-48F4-831D-02F421893250}" type="slidenum">
              <a:t>27</a:t>
            </a:fld>
          </a:p>
        </p:txBody>
      </p:sp>
    </p:spTree>
  </p:cSld>
  <p:transition>
    <p:blinds dir="horz"/>
  </p:transition>
  <p:timing>
    <p:tnLst>
      <p:par>
        <p:cTn id="1454" dur="indefinite" restart="never" nodeType="tmRoot">
          <p:childTnLst>
            <p:seq>
              <p:cTn id="1455" dur="indefinite" nodeType="mainSeq">
                <p:childTnLst>
                  <p:par>
                    <p:cTn id="1456" fill="hold">
                      <p:stCondLst>
                        <p:cond delay="0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60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fill="hold">
                      <p:stCondLst>
                        <p:cond delay="indefinite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5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8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1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4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8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4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7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1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7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0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1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4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7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0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1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3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7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3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6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9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1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2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fill="hold">
                            <p:stCondLst>
                              <p:cond delay="5000"/>
                            </p:stCondLst>
                            <p:childTnLst>
                              <p:par>
                                <p:cTn id="153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6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9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2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5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6" fill="hold">
                            <p:stCondLst>
                              <p:cond delay="6000"/>
                            </p:stCondLst>
                            <p:childTnLst>
                              <p:par>
                                <p:cTn id="154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9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" descr="Антипризмы"/>
          <p:cNvPicPr/>
          <p:nvPr/>
        </p:nvPicPr>
        <p:blipFill>
          <a:blip r:embed="rId1"/>
          <a:stretch/>
        </p:blipFill>
        <p:spPr>
          <a:xfrm>
            <a:off x="5940360" y="981000"/>
            <a:ext cx="3203640" cy="274500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Полуправильные многогран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3836880" y="4365720"/>
            <a:ext cx="2363760" cy="249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68" name="" descr=""/>
          <p:cNvPicPr/>
          <p:nvPr/>
        </p:nvPicPr>
        <p:blipFill>
          <a:blip r:embed="rId3"/>
          <a:stretch/>
        </p:blipFill>
        <p:spPr>
          <a:xfrm>
            <a:off x="1042920" y="4365720"/>
            <a:ext cx="2446560" cy="249228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3924360" y="2708280"/>
            <a:ext cx="1942920" cy="159696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5"/>
          <a:stretch/>
        </p:blipFill>
        <p:spPr>
          <a:xfrm>
            <a:off x="3924360" y="981000"/>
            <a:ext cx="1871640" cy="181764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6"/>
          <a:stretch/>
        </p:blipFill>
        <p:spPr>
          <a:xfrm>
            <a:off x="6227640" y="3716280"/>
            <a:ext cx="2614680" cy="2665440"/>
          </a:xfrm>
          <a:prstGeom prst="rect">
            <a:avLst/>
          </a:prstGeom>
          <a:ln w="0">
            <a:noFill/>
          </a:ln>
        </p:spPr>
      </p:pic>
      <p:pic>
        <p:nvPicPr>
          <p:cNvPr id="372" name="200522983" descr=""/>
          <p:cNvPicPr/>
          <p:nvPr/>
        </p:nvPicPr>
        <p:blipFill>
          <a:blip r:embed="rId7"/>
          <a:stretch/>
        </p:blipFill>
        <p:spPr>
          <a:xfrm>
            <a:off x="250920" y="907920"/>
            <a:ext cx="3744720" cy="3681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F7094-2928-40AA-A91B-B9E00E0C2CA5}" type="slidenum">
              <a:t>28</a:t>
            </a:fld>
          </a:p>
        </p:txBody>
      </p:sp>
    </p:spTree>
  </p:cSld>
  <p:transition>
    <p:blinds dir="vert"/>
  </p:transition>
  <p:timing>
    <p:tnLst>
      <p:par>
        <p:cTn id="1553" dur="indefinite" restart="never" nodeType="tmRoot">
          <p:childTnLst>
            <p:seq>
              <p:cTn id="1554" dur="indefinite" nodeType="mainSeq">
                <p:childTnLst>
                  <p:par>
                    <p:cTn id="1555" fill="hold">
                      <p:stCondLst>
                        <p:cond delay="0"/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9" dur="1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0" dur="4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1" dur="4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4" fill="hold">
                      <p:stCondLst>
                        <p:cond delay="indefinite"/>
                      </p:stCondLst>
                      <p:childTnLst>
                        <p:par>
                          <p:cTn id="1565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2" fill="hold">
                      <p:stCondLst>
                        <p:cond delay="indefinite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fill="hold">
                      <p:stCondLst>
                        <p:cond delay="indefinite"/>
                      </p:stCondLst>
                      <p:childTnLst>
                        <p:par>
                          <p:cTn id="1581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8" fill="hold">
                      <p:stCondLst>
                        <p:cond delay="indefinite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4" fill="hold">
                      <p:stCondLst>
                        <p:cond delay="indefinite"/>
                      </p:stCondLst>
                      <p:childTnLst>
                        <p:par>
                          <p:cTn id="1605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fill="hold">
                      <p:stCondLst>
                        <p:cond delay="indefinite"/>
                      </p:stCondLst>
                      <p:childTnLst>
                        <p:par>
                          <p:cTn id="1613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9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Звездчатые многогран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1655640" cy="165600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4572000" y="907920"/>
            <a:ext cx="1722600" cy="172908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3"/>
          <a:stretch/>
        </p:blipFill>
        <p:spPr>
          <a:xfrm>
            <a:off x="2484360" y="907920"/>
            <a:ext cx="1648080" cy="165600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4"/>
          <a:stretch/>
        </p:blipFill>
        <p:spPr>
          <a:xfrm>
            <a:off x="6659640" y="907920"/>
            <a:ext cx="1650960" cy="165744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5"/>
          <a:stretch/>
        </p:blipFill>
        <p:spPr>
          <a:xfrm>
            <a:off x="755640" y="2781360"/>
            <a:ext cx="1577880" cy="158436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6"/>
          <a:stretch/>
        </p:blipFill>
        <p:spPr>
          <a:xfrm>
            <a:off x="2700360" y="2708280"/>
            <a:ext cx="1649520" cy="165564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7"/>
          <a:stretch/>
        </p:blipFill>
        <p:spPr>
          <a:xfrm>
            <a:off x="4859280" y="2708280"/>
            <a:ext cx="1650960" cy="165744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8"/>
          <a:stretch/>
        </p:blipFill>
        <p:spPr>
          <a:xfrm>
            <a:off x="6877080" y="2708280"/>
            <a:ext cx="1722240" cy="172872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9"/>
          <a:stretch/>
        </p:blipFill>
        <p:spPr>
          <a:xfrm>
            <a:off x="179280" y="4653000"/>
            <a:ext cx="1792440" cy="180036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10"/>
          <a:stretch/>
        </p:blipFill>
        <p:spPr>
          <a:xfrm>
            <a:off x="2340000" y="4653000"/>
            <a:ext cx="1827360" cy="183528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11"/>
          <a:stretch/>
        </p:blipFill>
        <p:spPr>
          <a:xfrm>
            <a:off x="4500720" y="4724280"/>
            <a:ext cx="1827000" cy="183528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12"/>
          <a:stretch/>
        </p:blipFill>
        <p:spPr>
          <a:xfrm>
            <a:off x="6659640" y="4724280"/>
            <a:ext cx="1792080" cy="180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C3663-2D09-4C0C-8F24-4154CE050756}" type="slidenum">
              <a:t>29</a:t>
            </a:fld>
          </a:p>
        </p:txBody>
      </p:sp>
    </p:spTree>
  </p:cSld>
  <p:transition>
    <p:checker dir="vert"/>
  </p:transition>
  <p:timing>
    <p:tnLst>
      <p:par>
        <p:cTn id="1620" dur="indefinite" restart="never" nodeType="tmRoot">
          <p:childTnLst>
            <p:seq>
              <p:cTn id="1621" dur="indefinite" nodeType="mainSeq">
                <p:childTnLst>
                  <p:par>
                    <p:cTn id="1622" fill="hold">
                      <p:stCondLst>
                        <p:cond delay="0"/>
                      </p:stCondLst>
                      <p:childTnLst>
                        <p:par>
                          <p:cTn id="1623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26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7" fill="hold">
                      <p:stCondLst>
                        <p:cond delay="indefinite"/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1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2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3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6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7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8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2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3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4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7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8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9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6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3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4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5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8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9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0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1" fill="hold">
                            <p:stCondLst>
                              <p:cond delay="6000"/>
                            </p:stCondLst>
                            <p:childTnLst>
                              <p:par>
                                <p:cTn id="16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4" dur="2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5" dur="2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6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9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1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2" fill="hold">
                            <p:stCondLst>
                              <p:cond delay="8000"/>
                            </p:stCondLst>
                            <p:childTnLst>
                              <p:par>
                                <p:cTn id="16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5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7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0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1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2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6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8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1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3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Краткая характеристика </a:t>
            </a:r>
            <a:br>
              <a:rPr sz="3200"/>
            </a:b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основных понятий планимет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158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ланиметрия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здел геометрии, изучающий свойства фигур, лежащих в одной плоск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158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сли все точки фигуры принадлежат одной плоскости, то фигура называетс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лос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158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ини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— неопределяемое понятие геометр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158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рямую лини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удобно моделировать, сгибая любой лист бума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новное свойство прямой линии: прямая линия бесконеч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158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Кривую лини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удобно моделировать из шнура. Кривая линия также бесконечна (если она не замкнута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158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инии могут быть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замкнутыми и незамкнутым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158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инии могут быть расположены на плоскости и в пространст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сновные взаимоотношения точки и лин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Через одну точку можно провести множество прям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Через одну точку можно провести множество крив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Через две точки можно провести только одну пряму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Через две точки можно провести множество кривы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250AD-4A5D-49D2-90A9-E6DEFE5A8C63}" type="slidenum">
              <a:t>3</a:t>
            </a:fld>
          </a:p>
        </p:txBody>
      </p:sp>
    </p:spTree>
  </p:cSld>
  <p:transition>
    <p:zoom dir="in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2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2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2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2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Цилиндр и приз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9647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усть дана некоторая прямая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разующа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которая перемещается в пространстве параллельно самой себе. Выберем на прямой некоторую точку. Эта точка, передвигаясь вместе с прямой в пространстве, определяет некоторую линию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правляющу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В результате такого перемещения прямая описывает некоторую поверх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250920" y="2565360"/>
            <a:ext cx="4321080" cy="2919600"/>
            <a:chOff x="250920" y="2565360"/>
            <a:chExt cx="4321080" cy="2919600"/>
          </a:xfrm>
        </p:grpSpPr>
        <p:pic>
          <p:nvPicPr>
            <p:cNvPr id="389" name="" descr=""/>
            <p:cNvPicPr/>
            <p:nvPr/>
          </p:nvPicPr>
          <p:blipFill>
            <a:blip r:embed="rId1"/>
            <a:stretch/>
          </p:blipFill>
          <p:spPr>
            <a:xfrm>
              <a:off x="250920" y="2565360"/>
              <a:ext cx="4321080" cy="291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971640" y="2565360"/>
              <a:ext cx="2735280" cy="28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"/>
          <p:cNvSpPr/>
          <p:nvPr/>
        </p:nvSpPr>
        <p:spPr>
          <a:xfrm>
            <a:off x="4643280" y="2565360"/>
            <a:ext cx="4500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сли направляющая является замкнутой ломаной линией, то получаетс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зматическая поверхнос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сли направляющая – окружность, получаетс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руговая цилиндрическая поверх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сли направляющая – замкнутая кривая, то получаетс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цилиндрическая поверх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79280" y="544500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 пересечении получившейся поверхности двумя параллельными плоскостями получается либо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з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либо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цилин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сли образующие перпендикулярны плоскостям оснований, то призма и цилиндр 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ямы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Если нет 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клон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11288-0EA8-4F93-A330-42F5E0C749F6}" type="slidenum">
              <a:t>30</a:t>
            </a:fld>
          </a:p>
        </p:txBody>
      </p:sp>
    </p:spTree>
  </p:cSld>
  <p:transition>
    <p:cover dir="r"/>
  </p:transition>
  <p:timing>
    <p:tnLst>
      <p:par>
        <p:cTn id="1694" dur="indefinite" restart="never" nodeType="tmRoot">
          <p:childTnLst>
            <p:seq>
              <p:cTn id="1695" dur="indefinite" nodeType="mainSeq">
                <p:childTnLst>
                  <p:par>
                    <p:cTn id="1696" fill="hold">
                      <p:stCondLst>
                        <p:cond delay="0"/>
                      </p:stCondLst>
                      <p:childTnLst>
                        <p:par>
                          <p:cTn id="1697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0" dur="1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1" dur="4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2" dur="4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9" dur="10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3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4" fill="hold">
                      <p:stCondLst>
                        <p:cond delay="indefinite"/>
                      </p:stCondLst>
                      <p:childTnLst>
                        <p:par>
                          <p:cTn id="1715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8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9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9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2" fill="hold">
                      <p:stCondLst>
                        <p:cond delay="indefinite"/>
                      </p:stCondLst>
                      <p:childTnLst>
                        <p:par>
                          <p:cTn id="1723" fill="hold">
                            <p:stCondLst>
                              <p:cond delay="0"/>
                            </p:stCondLst>
                            <p:childTnLst>
                              <p:par>
                                <p:cTn id="17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6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Конус и пирами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95280" y="83628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усть дана некоторая точка в пространстве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ерши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и луч, выходящий из этой точки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разующа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Выберем на луче некоторую точку. Эта точка, передвигаясь вместе с лучом в пространстве, определяет некоторую линию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правляющу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Если луч будет перемещаться в пространстве так, что при этом постоянно будет проходить через неподвижную вершину, то он опишет некоторую поверхн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24000" y="2924280"/>
            <a:ext cx="3779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сли направляющая – замкнутая ломаная, то получитс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ирамидальная поверх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сли направляющая – замкнутая кривая, то получитс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ническая поверх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554688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сли полученную поверхность пересечь плоскостью, то получится либо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ирами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либо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ну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сли плоскость основания перпендикулярна отрезку, соединяющему центр основания и вершину, то конус и пирамида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ямы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3851280" y="2637000"/>
            <a:ext cx="4896000" cy="2879640"/>
            <a:chOff x="3851280" y="2637000"/>
            <a:chExt cx="4896000" cy="2879640"/>
          </a:xfrm>
        </p:grpSpPr>
        <p:pic>
          <p:nvPicPr>
            <p:cNvPr id="398" name="" descr=""/>
            <p:cNvPicPr/>
            <p:nvPr/>
          </p:nvPicPr>
          <p:blipFill>
            <a:blip r:embed="rId1"/>
            <a:stretch/>
          </p:blipFill>
          <p:spPr>
            <a:xfrm>
              <a:off x="3851280" y="2637000"/>
              <a:ext cx="4896000" cy="28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6516720" y="2637000"/>
              <a:ext cx="1440000" cy="28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4A3DF-2B3A-4521-9471-13E513E7E606}" type="slidenum">
              <a:t>31</a:t>
            </a:fld>
          </a:p>
        </p:txBody>
      </p:sp>
    </p:spTree>
  </p:cSld>
  <p:transition>
    <p:cover dir="u"/>
  </p:transition>
  <p:timing>
    <p:tnLst>
      <p:par>
        <p:cTn id="1727" dur="indefinite" restart="never" nodeType="tmRoot">
          <p:childTnLst>
            <p:seq>
              <p:cTn id="1728" dur="indefinite" nodeType="mainSeq">
                <p:childTnLst>
                  <p:par>
                    <p:cTn id="1729" fill="hold">
                      <p:stCondLst>
                        <p:cond delay="0"/>
                      </p:stCondLst>
                      <p:childTnLst>
                        <p:par>
                          <p:cTn id="1730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4" fill="hold">
                      <p:stCondLst>
                        <p:cond delay="indefinite"/>
                      </p:stCondLst>
                      <p:childTnLst>
                        <p:par>
                          <p:cTn id="1735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8" dur="5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9" fill="hold">
                            <p:stCondLst>
                              <p:cond delay="500"/>
                            </p:stCondLst>
                            <p:childTnLst>
                              <p:par>
                                <p:cTn id="17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2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3" fill="hold">
                      <p:stCondLst>
                        <p:cond delay="indefinite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7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8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9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1" fill="hold">
                      <p:stCondLst>
                        <p:cond delay="indefinite"/>
                      </p:stCondLst>
                      <p:childTnLst>
                        <p:par>
                          <p:cTn id="1752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5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Сфера и шар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фе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поверхность, состоящая из всех точек пространства, расположенных на данном расстоянии от данной точки 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центра сфер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диус сфер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отрезок, соединяющий центр и любую точку сфе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иаметр сфер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отрезок, соединяющий две точки сферы и проходящий через ее цент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Ша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тело, ограниченное сферой – множество точек пространства, расположенных от данной точки на расстоянии, не большем данн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Шаровой сегмен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часть шара, отсекаемая от него плоско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Шаровой сло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часть шара, расположенная между двумя параллельными плоскостями, пересекающими ша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1476360" y="3500280"/>
            <a:ext cx="5651640" cy="3106800"/>
            <a:chOff x="1476360" y="3500280"/>
            <a:chExt cx="5651640" cy="3106800"/>
          </a:xfrm>
        </p:grpSpPr>
        <p:pic>
          <p:nvPicPr>
            <p:cNvPr id="403" name="" descr=""/>
            <p:cNvPicPr/>
            <p:nvPr/>
          </p:nvPicPr>
          <p:blipFill>
            <a:blip r:embed="rId1"/>
            <a:srcRect l="0" t="6342" r="0" b="18051"/>
            <a:stretch/>
          </p:blipFill>
          <p:spPr>
            <a:xfrm>
              <a:off x="1476360" y="3500280"/>
              <a:ext cx="5651640" cy="310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2484360" y="6030720"/>
              <a:ext cx="64800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213440" y="5743440"/>
              <a:ext cx="647640" cy="71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7A2D8-104F-4BA4-8E74-1E7BD913E8CA}" type="slidenum">
              <a:t>32</a:t>
            </a:fld>
          </a:p>
        </p:txBody>
      </p:sp>
    </p:spTree>
  </p:cSld>
  <p:transition>
    <p:cut thruBlk="true"/>
  </p:transition>
  <p:timing>
    <p:tnLst>
      <p:par>
        <p:cTn id="1756" dur="indefinite" restart="never" nodeType="tmRoot">
          <p:childTnLst>
            <p:seq>
              <p:cTn id="1757" dur="indefinite" nodeType="mainSeq">
                <p:childTnLst>
                  <p:par>
                    <p:cTn id="1758" fill="hold">
                      <p:stCondLst>
                        <p:cond delay="0"/>
                      </p:stCondLst>
                      <p:childTnLst>
                        <p:par>
                          <p:cTn id="1759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2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1766" dur="20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70" dur="50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4" dur="80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5" dur="80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6" dur="80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0" dur="1000" fill="hold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1" dur="1000" fill="hold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2" dur="1000" fill="hold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3" dur="1000" fill="hold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7" dur="500" fill="hold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8" dur="500" fill="hold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9" dur="500" fill="hold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0" dur="500" fill="hold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4" dur="1000" fill="hold"/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5" dur="1000" fill="hold"/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6" dur="1000"/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9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FA652-B0CA-4159-AA75-DD173E9D509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2438280" y="404280"/>
            <a:ext cx="64008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"Ничто не нравится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кроме красоты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 красоте - ничто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кроме форм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 формах - ничто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кроме пропорций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 пропорциях - ничто, кроме числа"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А. Август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1800" dur="indefinite" restart="never" nodeType="tmRoot">
          <p:childTnLst>
            <p:seq>
              <p:cTn id="1801" dur="indefinite" nodeType="mainSeq">
                <p:childTnLst>
                  <p:par>
                    <p:cTn id="1802" fill="hold">
                      <p:stCondLst>
                        <p:cond delay="0"/>
                      </p:stCondLst>
                      <p:childTnLst>
                        <p:par>
                          <p:cTn id="1803" fill="hold">
                            <p:stCondLst>
                              <p:cond delay="0"/>
                            </p:stCondLst>
                            <p:childTnLst>
                              <p:par>
                                <p:cTn id="18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6" dur="8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1,37,12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7" dur="8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1,37,12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8" dur="8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9" fill="hold">
                            <p:stCondLst>
                              <p:cond delay="720"/>
                            </p:stCondLst>
                            <p:childTnLst>
                              <p:par>
                                <p:cTn id="18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2" dur="8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1,37,12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3" dur="8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1,37,12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4" dur="8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5" fill="hold">
                            <p:stCondLst>
                              <p:cond delay="1280"/>
                            </p:stCondLst>
                            <p:childTnLst>
                              <p:par>
                                <p:cTn id="18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8" dur="8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1,37,12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9" dur="8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1,37,12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0" dur="8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1" fill="hold">
                            <p:stCondLst>
                              <p:cond delay="1920"/>
                            </p:stCondLst>
                            <p:childTnLst>
                              <p:par>
                                <p:cTn id="18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4" dur="80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1,37,12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5" dur="80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1,37,12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6" dur="80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7" fill="hold">
                            <p:stCondLst>
                              <p:cond delay="2360"/>
                            </p:stCondLst>
                            <p:childTnLst>
                              <p:par>
                                <p:cTn id="18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0" dur="80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1,37,12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1" dur="80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1,37,12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2" dur="80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3" fill="hold">
                            <p:stCondLst>
                              <p:cond delay="2960"/>
                            </p:stCondLst>
                            <p:childTnLst>
                              <p:par>
                                <p:cTn id="18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6" dur="80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1,37,12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7" dur="80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1,37,12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8" dur="80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9" fill="hold">
                            <p:stCondLst>
                              <p:cond delay="3600"/>
                            </p:stCondLst>
                            <p:childTnLst>
                              <p:par>
                                <p:cTn id="18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2" dur="80"/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1,37,12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3" dur="80"/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1,37,12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4" dur="80"/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5" fill="hold">
                            <p:stCondLst>
                              <p:cond delay="4840"/>
                            </p:stCondLst>
                            <p:childTnLst>
                              <p:par>
                                <p:cTn id="18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8" dur="80"/>
                                        <p:tgtEl>
                                          <p:spTgt spid="4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1,37,12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9" dur="80"/>
                                        <p:tgtEl>
                                          <p:spTgt spid="4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1,37,12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0" dur="80"/>
                                        <p:tgtEl>
                                          <p:spTgt spid="4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Луч и отрез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9647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77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уч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часть прямой, ограниченная с одной стороны. Луч имеет начало, но не имеет конца. Луч бесконеч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7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чка А — начало луча А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7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7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7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учи могут бы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7760" indent="-777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направленны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7760" indent="-777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тивоположно направленны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7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7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резо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часть прямой, заключенная между двумя точками. Множество, состоящее из всех  точек прямой, лежащих между двумя данными точками, включая эти точ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7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резок имеет определенную длину, которую можно измер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7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струментом для измерения длин отрезков является линей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7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4140360" y="2565360"/>
            <a:ext cx="4105080" cy="93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D77B0-AD89-409B-A51B-554F381A60D9}" type="slidenum">
              <a:t>4</a:t>
            </a:fld>
          </a:p>
        </p:txBody>
      </p:sp>
    </p:spTree>
  </p:cSld>
  <p:transition>
    <p:zoom dir="out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2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468360" y="3789000"/>
            <a:ext cx="3023640" cy="2664000"/>
            <a:chOff x="468360" y="3789000"/>
            <a:chExt cx="3023640" cy="2664000"/>
          </a:xfrm>
        </p:grpSpPr>
        <p:grpSp>
          <p:nvGrpSpPr>
            <p:cNvPr id="209" name=""/>
            <p:cNvGrpSpPr/>
            <p:nvPr/>
          </p:nvGrpSpPr>
          <p:grpSpPr>
            <a:xfrm>
              <a:off x="468360" y="3789000"/>
              <a:ext cx="3023640" cy="457200"/>
              <a:chOff x="468360" y="3789000"/>
              <a:chExt cx="3023640" cy="457200"/>
            </a:xfrm>
          </p:grpSpPr>
          <p:sp>
            <p:nvSpPr>
              <p:cNvPr id="210" name=""/>
              <p:cNvSpPr/>
              <p:nvPr/>
            </p:nvSpPr>
            <p:spPr>
              <a:xfrm>
                <a:off x="468360" y="4246200"/>
                <a:ext cx="1786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 flipV="1">
                <a:off x="1018080" y="3789000"/>
                <a:ext cx="1236960" cy="456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255040" y="4246200"/>
                <a:ext cx="1236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1356120" y="4677120"/>
              <a:ext cx="1599840" cy="1775880"/>
              <a:chOff x="1356120" y="4677120"/>
              <a:chExt cx="1599840" cy="1775880"/>
            </a:xfrm>
          </p:grpSpPr>
          <p:sp>
            <p:nvSpPr>
              <p:cNvPr id="214" name=""/>
              <p:cNvSpPr/>
              <p:nvPr/>
            </p:nvSpPr>
            <p:spPr>
              <a:xfrm>
                <a:off x="1356480" y="4677120"/>
                <a:ext cx="1599480" cy="1775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1356120" y="4795200"/>
                <a:ext cx="1599480" cy="1657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6" name=""/>
          <p:cNvGrpSpPr/>
          <p:nvPr/>
        </p:nvGrpSpPr>
        <p:grpSpPr>
          <a:xfrm>
            <a:off x="4643280" y="3860280"/>
            <a:ext cx="3600720" cy="1944360"/>
            <a:chOff x="4643280" y="3860280"/>
            <a:chExt cx="3600720" cy="1944360"/>
          </a:xfrm>
        </p:grpSpPr>
        <p:grpSp>
          <p:nvGrpSpPr>
            <p:cNvPr id="217" name=""/>
            <p:cNvGrpSpPr/>
            <p:nvPr/>
          </p:nvGrpSpPr>
          <p:grpSpPr>
            <a:xfrm>
              <a:off x="4843080" y="4184640"/>
              <a:ext cx="799920" cy="1620000"/>
              <a:chOff x="4843080" y="4184640"/>
              <a:chExt cx="799920" cy="1620000"/>
            </a:xfrm>
          </p:grpSpPr>
          <p:sp>
            <p:nvSpPr>
              <p:cNvPr id="218" name=""/>
              <p:cNvSpPr/>
              <p:nvPr/>
            </p:nvSpPr>
            <p:spPr>
              <a:xfrm>
                <a:off x="4843080" y="4184640"/>
                <a:ext cx="0" cy="1620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843080" y="5804640"/>
                <a:ext cx="799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5643360" y="4184640"/>
              <a:ext cx="1599840" cy="1296000"/>
              <a:chOff x="5643360" y="4184640"/>
              <a:chExt cx="1599840" cy="1296000"/>
            </a:xfrm>
          </p:grpSpPr>
          <p:sp>
            <p:nvSpPr>
              <p:cNvPr id="221" name=""/>
              <p:cNvSpPr/>
              <p:nvPr/>
            </p:nvSpPr>
            <p:spPr>
              <a:xfrm>
                <a:off x="5643360" y="4184640"/>
                <a:ext cx="399960" cy="1296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043320" y="5480640"/>
                <a:ext cx="1199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7043760" y="4508640"/>
              <a:ext cx="1000080" cy="972000"/>
              <a:chOff x="7043760" y="4508640"/>
              <a:chExt cx="1000080" cy="972000"/>
            </a:xfrm>
          </p:grpSpPr>
          <p:sp>
            <p:nvSpPr>
              <p:cNvPr id="224" name=""/>
              <p:cNvSpPr/>
              <p:nvPr/>
            </p:nvSpPr>
            <p:spPr>
              <a:xfrm flipH="1">
                <a:off x="7043760" y="4508640"/>
                <a:ext cx="799920" cy="648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043760" y="5156640"/>
                <a:ext cx="1000080" cy="324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4643280" y="3860280"/>
              <a:ext cx="3600720" cy="101880"/>
              <a:chOff x="4643280" y="3860280"/>
              <a:chExt cx="3600720" cy="101880"/>
            </a:xfrm>
          </p:grpSpPr>
          <p:sp>
            <p:nvSpPr>
              <p:cNvPr id="227" name=""/>
              <p:cNvSpPr/>
              <p:nvPr/>
            </p:nvSpPr>
            <p:spPr>
              <a:xfrm>
                <a:off x="4643280" y="3860640"/>
                <a:ext cx="3600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V="1">
                <a:off x="6443640" y="3859920"/>
                <a:ext cx="63360" cy="101880"/>
              </a:xfrm>
              <a:prstGeom prst="ellipse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Угл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гол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— это часть плоскости, ограниченная двумя лучами, имеющими общее нача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учи, образующие угол, называютс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оронами угл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а их общее начало —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ершиной уг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ножество всех точек плоскости между сторонами угла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нутренняя плоскость уг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глы равны, если при наложении их стороны совпадаю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cc"/>
                </a:solidFill>
                <a:latin typeface="Arial"/>
              </a:rPr>
              <a:t>Виды уг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356000" y="3565440"/>
            <a:ext cx="457200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 расположе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Два угл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имеющих общую сторону и вершину, являются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смежными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если две другие их стороны лежат на одной прям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Два угл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называются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вертикальными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если стороны одного являются дополнительными полупрямыми сторон друг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9280" y="3789360"/>
            <a:ext cx="4249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величине (градусной мер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гол развернутый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лучи, выходящие из одной точки, лежат на одной прям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ямой уго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9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упой уго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– больше прям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стрый уго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– меньше прямог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A3811-40E2-4B30-ADF0-D263119143D7}" type="slidenum">
              <a:t>5</a:t>
            </a:fld>
          </a:p>
        </p:txBody>
      </p:sp>
    </p:spTree>
  </p:cSld>
  <p:transition>
    <p:checker dir="horz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1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10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20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4000"/>
                            </p:stCondLst>
                            <p:childTnLst>
                              <p:par>
                                <p:cTn id="3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10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20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341" dur="2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2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5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365" dur="2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2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69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Ломаная ли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8200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оманая линия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ъединение отрезков, в котором конец каждого отрезка является началом следующего отрезка, и отрезки, имеющие общий конец, не лежат на одной прям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резки, составляющие ломаную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венья ломаной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очки соединения концов звеньев 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ершины ломаной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венья ломаной должны быть соединены последовательно. Ломаная линия содержит конечное число звенье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лина ломано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— сумма длин звеньев ломан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омана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мкнута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если конец ее последнего звена совпадает с началом первого зве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омана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остая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если каждое звено имеет только одну общую точку с другим звеном (конец звена). Несмежные звенья не пересекаю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rcRect l="0" t="0" r="0" b="15001"/>
          <a:stretch/>
        </p:blipFill>
        <p:spPr>
          <a:xfrm>
            <a:off x="0" y="1197000"/>
            <a:ext cx="9144000" cy="428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FD4DA-2F1F-4034-ABC7-F9A3F210BF5C}" type="slidenum">
              <a:t>6</a:t>
            </a:fld>
          </a:p>
        </p:txBody>
      </p:sp>
    </p:spTree>
  </p:cSld>
  <p:transition>
    <p:comb dir="horz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2500"/>
                            </p:stCondLst>
                            <p:childTnLst>
                              <p:par>
                                <p:cTn id="3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4500"/>
                            </p:stCondLst>
                            <p:childTnLst>
                              <p:par>
                                <p:cTn id="40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650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8500"/>
                            </p:stCondLst>
                            <p:childTnLst>
                              <p:par>
                                <p:cTn id="41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000"/>
                            </p:stCondLst>
                            <p:childTnLst>
                              <p:par>
                                <p:cTn id="43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2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Многоугольник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79280" y="980640"/>
            <a:ext cx="878544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ногоугольник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плоская фигура, ограниченная простой замкнутой ломан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а ломаная 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аница многоугольника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звенья 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ороны многоугольни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точки пересечения звеньев 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ршины многоугольни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Число вершин многоугольника равно числу его сторо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огоугольник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пуклый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если он лежит в одной полуплоскости относительно любой прямой, содержащей его сторо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агональ многоугольни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отрезок, соединяющий две несоседние вершины многоуголь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огоугольник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авильный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если все его стороны и все углы равны между соб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2700360" y="4437000"/>
            <a:ext cx="468000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49EB3-2016-4C30-9F0B-1BE4C6ADE840}" type="slidenum">
              <a:t>7</a:t>
            </a:fld>
          </a:p>
        </p:txBody>
      </p:sp>
    </p:spTree>
  </p:cSld>
  <p:transition>
    <p:cover dir="d"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000"/>
                            </p:stCondLst>
                            <p:childTnLst>
                              <p:par>
                                <p:cTn id="47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500"/>
                            </p:stCondLst>
                            <p:childTnLst>
                              <p:par>
                                <p:cTn id="48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Треугольник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реугольник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— многоугольник с тремя углами и сторонами, ограничен ломаной из трех звеньев. Фигура, состоящая из трех точек, не лежащих на одной прямой, и трех попарно соединяющих их отрез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2205000"/>
            <a:ext cx="493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cc"/>
                </a:solidFill>
                <a:latin typeface="Arial"/>
              </a:rPr>
              <a:t>Виды треугольников в зависимости от длин стор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Разносторонние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стороны разной дл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Равнобедренные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равны две сторо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Равносторонние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равны все три сторо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788000" y="2133720"/>
            <a:ext cx="435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cc"/>
                </a:solidFill>
                <a:latin typeface="Arial"/>
              </a:rPr>
              <a:t>Виды треугольников в зависимости от содержащихся в них уг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Остроугольные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все углы остры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рямоугольные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один прямой уго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Тупоугольные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один тупой уго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501336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треугольнике не может быть больше одного прямого или тупого уг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вносторонни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реугольник может быть только остроуголь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ямоугольный и тупоугольный треугольники могут быть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внобедренн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зносторонним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гут быть и остроугольный, и прямоугольный, и тупоугольный треугольн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468360" y="4005360"/>
            <a:ext cx="2603520" cy="936360"/>
            <a:chOff x="468360" y="4005360"/>
            <a:chExt cx="2603520" cy="936360"/>
          </a:xfrm>
        </p:grpSpPr>
        <p:sp>
          <p:nvSpPr>
            <p:cNvPr id="245" name=""/>
            <p:cNvSpPr/>
            <p:nvPr/>
          </p:nvSpPr>
          <p:spPr>
            <a:xfrm>
              <a:off x="1564560" y="4005360"/>
              <a:ext cx="547920" cy="9363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386800" y="4272840"/>
              <a:ext cx="685080" cy="534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468360" y="4272840"/>
              <a:ext cx="547920" cy="26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016280" y="4272840"/>
              <a:ext cx="136800" cy="66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68360" y="4540320"/>
              <a:ext cx="684720" cy="40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4932360" y="3860280"/>
            <a:ext cx="3671640" cy="1008720"/>
            <a:chOff x="4932360" y="3860280"/>
            <a:chExt cx="3671640" cy="1008720"/>
          </a:xfrm>
        </p:grpSpPr>
        <p:sp>
          <p:nvSpPr>
            <p:cNvPr id="251" name=""/>
            <p:cNvSpPr/>
            <p:nvPr/>
          </p:nvSpPr>
          <p:spPr>
            <a:xfrm>
              <a:off x="4932360" y="3860640"/>
              <a:ext cx="734040" cy="8064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960520" y="4062240"/>
              <a:ext cx="1175040" cy="80640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282440" y="4869000"/>
              <a:ext cx="88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8163360" y="3860640"/>
              <a:ext cx="440280" cy="100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7282440" y="3860280"/>
              <a:ext cx="1321560" cy="100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266F4-5EBB-4048-B98D-748EE91C4D3B}" type="slidenum">
              <a:t>8</a:t>
            </a:fld>
          </a:p>
        </p:txBody>
      </p:sp>
    </p:spTree>
  </p:cSld>
  <p:transition>
    <p:cover dir="ru"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0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2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000"/>
                            </p:stCondLst>
                            <p:childTnLst>
                              <p:par>
                                <p:cTn id="53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Четырехугольник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79280" y="980640"/>
            <a:ext cx="89647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Четырехугольник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 ограничен ломаной из четырех звеньев, имеет четыре стороны и четыре верши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игура, состоящая из четырех точек и четырех последовательно соединяющих их отрезков, при этом никакие три из данных точек не лежат на одной прямой, а соединяющие их отрезки не пересекаю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2349360"/>
            <a:ext cx="4826160" cy="1584360"/>
          </a:xfrm>
          <a:prstGeom prst="parallelogram">
            <a:avLst>
              <a:gd name="adj" fmla="val 7615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152360" y="2349360"/>
            <a:ext cx="288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араллелограмм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етырехугольник, противоположные стороны которого попарно параллель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rot="10800000">
            <a:off x="5508360" y="4581000"/>
            <a:ext cx="3384360" cy="2087640"/>
          </a:xfrm>
          <a:custGeom>
            <a:avLst/>
            <a:gdLst>
              <a:gd name="textAreaLeft" fmla="*/ 744120 w 3384360"/>
              <a:gd name="textAreaRight" fmla="*/ 2640240 w 3384360"/>
              <a:gd name="textAreaTop" fmla="*/ 459000 h 2087640"/>
              <a:gd name="textAreaBottom" fmla="*/ 162864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56360" y="4581360"/>
            <a:ext cx="2089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рапеция 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етырехугольник, две стороны которого параллельны, а две другие не параллель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rot="5263800">
            <a:off x="5953320" y="1038960"/>
            <a:ext cx="1914480" cy="41036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589720" y="2637000"/>
            <a:ext cx="280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омб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– параллелограмм, все стороны которого рав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0920" y="5084640"/>
            <a:ext cx="280836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50920" y="5084640"/>
            <a:ext cx="29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ямоугольник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 параллелограмм, у которого все углы прям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92360" y="4005360"/>
            <a:ext cx="2159280" cy="21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64000" y="4437000"/>
            <a:ext cx="201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вадрат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ямоугольник, у которого все стороны рав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CDE71-A5C7-4C9C-9F47-826A77916F76}" type="slidenum">
              <a:t>9</a:t>
            </a:fld>
          </a:p>
        </p:txBody>
      </p:sp>
    </p:spTree>
  </p:cSld>
  <p:transition>
    <p:dissolve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0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000"/>
                            </p:stCondLst>
                            <p:childTnLst>
                              <p:par>
                                <p:cTn id="56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9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2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5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1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0T11:45:34Z</dcterms:created>
  <dc:creator>Габов</dc:creator>
  <dc:description/>
  <dc:language>en-US</dc:language>
  <cp:lastModifiedBy>Габов</cp:lastModifiedBy>
  <dcterms:modified xsi:type="dcterms:W3CDTF">2006-04-23T07:02:37Z</dcterms:modified>
  <cp:revision>12</cp:revision>
  <dc:subject/>
  <dc:title>Слайд 1</dc:title>
</cp:coreProperties>
</file>